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dt" idx="38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ftr" idx="39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 type="sldNum" idx="40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F967-0477-49B7-8BE0-75BB4CB70DC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mieniłem umieszczenie ustaw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83AD-3710-4597-B65D-C0819B9BF0F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2BCD-5A00-4F04-98C5-8CE8DD73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CF82-8602-47E1-9F02-0DC5EF1F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B36B8-89CA-492E-B2F8-CA4A51E0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32707-ED20-46C9-BC79-1F2A6513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C074B-BF0E-45C0-9E8D-625BC7B7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ED63F-D423-4398-B04D-39143228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70663-75A3-4021-ACC8-56093011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97925-3347-4579-B870-C8F79657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52DB3-EDAA-44BC-8AB2-0680CC61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42EA4-E65C-49EC-914C-6D901966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AA274-2F1A-4076-9CF9-8453A2825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4AFF3-59D4-4BD7-BAB1-D92AC272A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29FD-ABE7-462F-AF32-6DC55ADB1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2771B-214A-460B-9B3A-0E333E52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AF21F-E2E2-43A1-819E-A6019978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B8429-452F-45F9-9062-3605620D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6590F-6BB6-4E41-B121-C10353CC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A107A-0218-443C-9F96-3DA38467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9E1985-403C-4B96-978A-E46FADFF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909AC-2E3C-4AD7-A868-FE577727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54758-11B2-4BF2-A515-ACD2EC30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2B6FC-B1AA-4F47-A35A-A935295D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02336-6830-456C-A194-AE8E18EE1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5379-7914-4C5E-A6DE-10E301CA7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3C2CC-D3BF-4AF7-ACBF-699A7CAC2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A77E9F-A650-4514-9824-007F4D7FFC4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1A13FE-C0D2-4F8D-894E-A04D5460976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B6C57B-D0DD-4803-959E-B0CFD4C7BAC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E7F627-A8FE-4F3A-9777-AF97F91821D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0AF89F-6779-4773-A440-92B2C18B118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920B40-4F91-413A-93AD-6A6996FCA1A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06C690-C1D6-455D-8329-3F918AAE48C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A79542-233F-4D37-AD0B-965B37067B4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42EFA8-CC8A-42E4-9C6C-CF447AA2A4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55C3-DA24-4F34-AB55-38792A8AC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E37139-9EE2-4AAB-B08D-FF30BCA2E76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3F3643-6C31-4B18-BBA6-F2C9A4D83D6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A53846-E48B-4BEB-94EB-D9C1652F182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D6D7449-F8DD-4115-8947-E0C8712AE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3960498-F6A3-4F34-8BB2-4A6EAECD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FE5E473-4B4B-4954-B532-F554D5F4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CB420BA-94CE-4358-98C3-0A329D44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6152945-2D90-46C5-88EE-A86F4411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FABAD8E-523B-4658-A26D-20D03AF4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C5D9FE4-8660-46AB-9DB2-4BAC2C64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F25A-79C1-4949-BEF7-23580F54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D6C75B2-3F70-492F-859E-C7C70FE6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FA8D180-6789-49EA-881F-66DA4169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9A9727D-5B11-45E0-910A-24AF349C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A277FEF-30FC-47E8-9877-EFE048586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1DA71AA-BA34-4185-AD6E-CD600F843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099476-E62D-40EF-963C-218D93CDF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4254F7-C384-43AA-9618-ED0A5BE4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8A81C6-2B7A-4DEB-AC55-58EECF9B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320644-C560-4F7A-B710-291E8EF9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6657A2-010E-404F-A2FF-E833C81C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8410-42BD-475B-A2A5-5D4243B2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83CB8D-9FE3-4E34-AD53-E8A1B020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80214F-A4B1-4B4B-8AE4-577B8ED9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111FD5-D0A0-4E1B-883B-19932FCE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7F8147-6755-42D0-B80A-09DD6F74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0E137D-FAE1-4B79-A70F-068F027D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31CCCD-70DB-44B0-81C2-F4A6CD9F6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42E37D-4714-47AC-98DF-35F758E68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35C5-D549-45E5-9225-9705DE82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F396B49-CEB6-411E-8BF4-A5C931080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9958-B9ED-4ED0-97FE-F11B1168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85D486D-C0F4-40E0-88EF-843724BD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DB32597-C7DC-4F0F-A460-D2A424A0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67AF7C5-9F68-4B8F-894E-E29DBAB8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5FCA20F-D7DA-44F1-AAC6-1FA8DB68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DD45701-D7A7-4133-A211-E38B08FD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BF33ECB-8ABC-49E1-BC9E-9F338551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BF02546-7A97-4FC2-9C53-26CDAB1A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CC066B1-5D0B-4CF0-A0DE-5C772ED0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A0F591E-7DDC-4FD0-885D-2A04E0C1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1E2A053-0A65-47B3-B935-A08658911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4D54-2F80-4EC6-8662-46C33671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453F358-922E-4514-A4EA-E68AB7F9E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355D-940D-41BF-B0A4-8BD492FE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835D-8EA9-4E4C-8B10-9EC77B2B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93FF-83DC-473D-97A9-F0F60234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F59F-A6BA-4CB1-B952-BD538AD5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64D3F-3153-423B-98C7-BB2555BB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EFE4-76E1-4F46-8CEE-66ADC64B5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EA61-7A47-41EA-976A-E8D76B705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34E64-065A-4ED3-A6FB-185AD67F8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C46FD-351F-4171-B6BF-C0A9933A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1DC07-BF12-4CAF-A120-D851680F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9CDD7-8C72-41FA-AD7A-BB267F99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36161-896E-431F-8777-FD6F9371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7681-8926-4A8F-BF15-47B59CFE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E1F7E-0C77-473B-AD51-4D70C5FD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C5190-8163-4FC4-A99D-4D944F7D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0C169-E8A2-4ED2-9645-23C86D5D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D5F55-19E1-4193-892E-31515B4F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79B52-2C75-436C-97D0-FBCA49A1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AFA7D-E45D-4784-AC27-EB9A2646B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37BA9-5B84-461E-BD4D-9EF945DB8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FB502-3211-4219-B30A-B07ABD987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96677-C022-45E3-B96A-39EDBF8C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25C01-780F-4824-94E7-E3C852C9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DA30-4F14-4381-8C08-182B76D3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6971A-C56D-41BC-A80D-2FBCA6CE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12B69-1BCB-4222-A44E-3FF959D9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8598C-DCAF-41C1-A3FC-817E88B7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1739F-D19C-4B78-BAD3-28C11DE9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A8D3B-E12B-4E4F-A4CE-E4FCAEF1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54ABC-B45B-4AA9-8695-DF6C4054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2CA9C-DB98-41A2-ACCD-CB92EEB6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3F519-96EB-4E90-8454-029C7BF4F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70BAD-3D30-4ECE-B137-6C66F584F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096A-B026-46B8-AC45-DADC5C76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255C-1B3A-4BDA-B35E-C845E22C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E6F1C-D68D-4A73-8DFD-DFCE22D2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62370-98DF-4EDD-918F-47B5F528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DA953-310D-40B6-8437-D078F755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D8A84-4C43-400C-A0DD-CB83472D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923F9-BA6E-49A4-A18D-E4285489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78052-203C-4554-BBBB-A89DEE5F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FFB47-1E3A-4561-AB25-BE9BCD14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869C8-E7A3-4A9F-AF78-21434E12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BF6AB-8CCE-4491-B8C2-616D57E1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1C49-7A30-4879-8FAC-A877C751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027C9-EA36-4C5C-804F-138D9A62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97638-5DBF-41C2-BB54-6008BFD95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55409-B1A2-40E6-B6BB-D8B3DF63C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E3E20-EC40-405C-8EA3-B89746D3B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D8A64-254F-4608-BA79-BDAB4AD5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6AA7C-997C-4A2A-985F-ECFB290A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C7E25-24C8-4941-BF94-A43D7AA0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270CE-BD7E-4129-8F8E-E05160A5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73CE6-A0A3-4F34-AABA-0A591C4D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7C5E9-95BF-49AA-90C8-67325B2A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8EDF-39DE-4599-AFE3-D84E340C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BDD7C-5280-423D-8FB0-F28F2B24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0E8D8-F59D-4A9B-BDC7-E50BBA0C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51F0B-CD59-402F-94CB-F7CA4B2B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AA805-B114-4273-9145-AF6688F44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4C40E-C7BF-47BF-A956-D61E72CBB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3085F-D53B-4AEE-BBFA-D76E039F1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33314-D7ED-4094-9DA4-12A1FC29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1C163-EB16-455C-963B-E8D03FA0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BA843-9401-4354-80B8-F4C71FA3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75248-15D6-4709-9B67-003544AF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7F53-8276-43A2-82A8-ADFFE3B0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E34C1-4000-4967-9910-26F80E4C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0E4D3-8AD8-49E8-A33F-395EF207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DD723-2729-4F7D-8CE1-8357416C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365D3-3094-4A06-9D44-F2AEE599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D52B5-A3C7-4350-B442-505ABFDE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56C10-CC3D-4BCB-B25C-521167DA3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DD1C3-BB74-451C-BBEA-76C338A7B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24603-4915-4889-BD49-3D227BC9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7396F-6784-4E2F-8C99-CFC564E6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636FA-E97E-41A5-BB14-1BFD080B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2DB9-DFB2-4C42-9336-E23A69A97D40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Obraz 7" descr="6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Obraz 7" descr="8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24000" y="213840"/>
            <a:ext cx="8075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316080" y="104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263520"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901920" y="6447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69B6-3570-4773-8BAE-014554A9BA75}" type="slidenum">
              <a:rPr b="0" lang="pl-PL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Obraz 7" descr="8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1" descr="2"/>
          <p:cNvPicPr/>
          <p:nvPr/>
        </p:nvPicPr>
        <p:blipFill>
          <a:blip r:embed="rId3"/>
          <a:stretch/>
        </p:blipFill>
        <p:spPr>
          <a:xfrm>
            <a:off x="0" y="0"/>
            <a:ext cx="9210600" cy="709128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24000" y="213840"/>
            <a:ext cx="8075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316080" y="104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263520"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sldNum" idx="28"/>
          </p:nvPr>
        </p:nvSpPr>
        <p:spPr>
          <a:xfrm>
            <a:off x="7077240" y="6857640"/>
            <a:ext cx="213336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F079-CF33-4416-AEA4-AE95DC6A0030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Obraz 7" descr="8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24000" y="213840"/>
            <a:ext cx="8075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316080" y="104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263520"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1"/>
          </p:nvPr>
        </p:nvSpPr>
        <p:spPr>
          <a:xfrm>
            <a:off x="6901920" y="6447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0339-A77B-4062-8806-CE19414C87A2}" type="slidenum">
              <a:rPr b="0" lang="pl-PL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Obraz 7" descr="8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24000" y="213840"/>
            <a:ext cx="8075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16080" y="104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263520"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4"/>
          </p:nvPr>
        </p:nvSpPr>
        <p:spPr>
          <a:xfrm>
            <a:off x="6901920" y="6447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A105-1855-4244-93E1-C2FEA00328F9}" type="slidenum">
              <a:rPr b="0" lang="pl-PL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Obraz 7" descr="6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Obraz 7" descr="6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30C1-73F5-4116-873F-9D63C09112D4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Obraz 7" descr="8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13840"/>
            <a:ext cx="8075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16080" y="104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263520"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01920" y="6447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2572-E4DE-4EFB-9424-03E0F7DE6BFF}" type="slidenum">
              <a:rPr b="0" lang="pl-PL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raz 7" descr="8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213840"/>
            <a:ext cx="8075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16080" y="104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263520"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901920" y="6447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836B-67D5-4AA6-8EE5-523423FC08E4}" type="slidenum">
              <a:rPr b="0" lang="pl-PL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F465-2982-41F9-89D6-D46B0A9DCAC9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Obraz 7" descr="6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Obraz 7" descr="6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Obraz 7" descr="8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213840"/>
            <a:ext cx="8075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316080" y="104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263520"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901920" y="6447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CDC0-1BFB-4999-A193-FE233234D95D}" type="slidenum">
              <a:rPr b="0" lang="pl-PL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Obraz 7" descr="8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213840"/>
            <a:ext cx="8075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316080" y="104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263520"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6901920" y="6447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DF92-542D-498F-AC39-E2B6095EF1E2}" type="slidenum">
              <a:rPr b="0" lang="pl-PL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Obraz 7" descr="8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4000" y="213840"/>
            <a:ext cx="8075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316080" y="104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263520"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1"/>
          </p:nvPr>
        </p:nvSpPr>
        <p:spPr>
          <a:xfrm>
            <a:off x="6901920" y="6447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28B8-F429-42FD-8BCB-8C03016B44C8}" type="slidenum">
              <a:rPr b="0" lang="pl-PL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Obraz 7" descr="8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24000" y="213840"/>
            <a:ext cx="8075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316080" y="104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263520"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6901920" y="6447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AEA0-E413-4881-B777-23573946444A}" type="slidenum">
              <a:rPr b="0" lang="pl-PL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ytuł 1"/>
          <p:cNvSpPr/>
          <p:nvPr/>
        </p:nvSpPr>
        <p:spPr>
          <a:xfrm>
            <a:off x="2071800" y="2924280"/>
            <a:ext cx="65293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Idea ubezpieczeń ochrony prawnej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odtytuł 2"/>
          <p:cNvSpPr/>
          <p:nvPr/>
        </p:nvSpPr>
        <p:spPr>
          <a:xfrm>
            <a:off x="2071800" y="3573360"/>
            <a:ext cx="584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Arial"/>
              </a:rPr>
              <a:t>Szczecin, 19 listopada 2019 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ole tekstowe 1"/>
          <p:cNvSpPr/>
          <p:nvPr/>
        </p:nvSpPr>
        <p:spPr>
          <a:xfrm>
            <a:off x="2071800" y="5456160"/>
            <a:ext cx="52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Arial"/>
              </a:rPr>
              <a:t>Małgorzata Trybuchowicz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Arial"/>
              </a:rPr>
              <a:t>Zespół ds. ubezpieczeń ochrony prawnej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Arial"/>
              </a:rPr>
              <a:t>Polska Izba Ubezpiecze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ole tekstowe 9"/>
          <p:cNvSpPr/>
          <p:nvPr/>
        </p:nvSpPr>
        <p:spPr>
          <a:xfrm>
            <a:off x="216000" y="0"/>
            <a:ext cx="8712000" cy="74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800" spc="-1" strike="noStrike">
                <a:solidFill>
                  <a:srgbClr val="953735"/>
                </a:solidFill>
                <a:latin typeface="Calibri"/>
              </a:rPr>
              <a:t>Ochrona Prawna – regulacja praw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Art. 27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stawy o działalności ubezpieczeniowej i reasekuracyjn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Ubezpieczenie ochrony prawnej chroni przed ryzykiem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rowadzenia sporów prawnych i ponoszeniem kosztów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związanych z takimi spor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Ubezpieczyciel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rekompensuje koszty, ale nie prowadzi samodzielnie spraw ubezpieczonego –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nie reprezentuje ubezpieczonego w sądz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 etapie sądowym Ubezpieczony ma prawo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olnego wyboru pełnomocni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drębna likwidacja szkód – likwidator zajmujący się szkodami z Ochrony Prawnej nie może likwidować szkód z innych grup ubezpieczeń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189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53735"/>
                </a:solidFill>
                <a:latin typeface="Calibri"/>
              </a:rPr>
              <a:t>Ubezpieczenie Ochrony Prawnej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250560" y="83664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Verdana"/>
              </a:rPr>
              <a:t>Zakres ochrony w ubezpieczeniu ochrony prawnej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601"/>
              </a:spcBef>
              <a:buClr>
                <a:srgbClr val="912244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Verdana"/>
              </a:rPr>
              <a:t>Dochodzenie roszczeń przez Ubezpieczoneg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601"/>
              </a:spcBef>
              <a:buClr>
                <a:srgbClr val="912244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601"/>
              </a:spcBef>
              <a:buClr>
                <a:srgbClr val="912244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Verdana"/>
              </a:rPr>
              <a:t>Obrona przed roszczeniami wysuwanymi wobec Ubezpieczoneg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Symbol zastępczy zawartości 3" descr=""/>
          <p:cNvPicPr/>
          <p:nvPr/>
        </p:nvPicPr>
        <p:blipFill>
          <a:blip r:embed="rId1"/>
          <a:stretch/>
        </p:blipFill>
        <p:spPr>
          <a:xfrm>
            <a:off x="201600" y="792000"/>
            <a:ext cx="8832960" cy="6145200"/>
          </a:xfrm>
          <a:prstGeom prst="rect">
            <a:avLst/>
          </a:prstGeom>
          <a:ln w="0">
            <a:noFill/>
          </a:ln>
        </p:spPr>
      </p:pic>
      <p:sp>
        <p:nvSpPr>
          <p:cNvPr id="663" name="pole tekstowe 1"/>
          <p:cNvSpPr/>
          <p:nvPr/>
        </p:nvSpPr>
        <p:spPr>
          <a:xfrm>
            <a:off x="198360" y="189000"/>
            <a:ext cx="840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Możliwe świadczenia w ramach ubezpieczenia Ochrony Prawn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rzykładowe koszty pokrywane z OP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324000" y="1052280"/>
            <a:ext cx="8640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50920" algn="just">
              <a:lnSpc>
                <a:spcPct val="15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oszty wynagrodzenia adwokata lub radcy prawnego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250920" algn="just">
              <a:lnSpc>
                <a:spcPct val="15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oszty sądowe, łącznie z należnościami dla świadków i biegłych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250920" algn="just">
              <a:lnSpc>
                <a:spcPct val="15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płaty i koszty w postępowaniu przed organami administracji państwowej i samorządowej, łącznie z należnościami dla świadków i biegłych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250920" algn="just">
              <a:lnSpc>
                <a:spcPct val="15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oszty poręczenia majątkowego przewidzianego dla uniknięcia tymczasowego aresztowani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250920" algn="just">
              <a:lnSpc>
                <a:spcPct val="150000"/>
              </a:lnSpc>
              <a:spcBef>
                <a:spcPts val="499"/>
              </a:spcBef>
              <a:buClr>
                <a:srgbClr val="91224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oszty obrony interesów prawnych strony przeciwnej, o ile Ubezpieczony na mocy prawomocnego orzeczenia sądu zobowiązany jest do ich pokryci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189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stępowanie cywilne – przykład kosztów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67" name=""/>
          <p:cNvGraphicFramePr/>
          <p:nvPr/>
        </p:nvGraphicFramePr>
        <p:xfrm>
          <a:off x="320760" y="1050840"/>
          <a:ext cx="8516880" cy="2738520"/>
        </p:xfrm>
        <a:graphic>
          <a:graphicData uri="http://schemas.openxmlformats.org/drawingml/2006/table">
            <a:tbl>
              <a:tblPr/>
              <a:tblGrid>
                <a:gridCol w="2128680"/>
                <a:gridCol w="2130480"/>
                <a:gridCol w="2128680"/>
                <a:gridCol w="2129040"/>
              </a:tblGrid>
              <a:tr h="126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artość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zedmiotu spo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224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ynik proces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224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 instan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224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I instan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2244"/>
                    </a:solidFill>
                  </a:tcPr>
                </a:tc>
              </a:tr>
              <a:tr h="734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 000 z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ygr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38520" rIns="385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 4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38520" rIns="385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 2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73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zegr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38520" rIns="385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 6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38520" rIns="385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 3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  <p:sp>
        <p:nvSpPr>
          <p:cNvPr id="668" name="pole tekstowe 5"/>
          <p:cNvSpPr/>
          <p:nvPr/>
        </p:nvSpPr>
        <p:spPr>
          <a:xfrm>
            <a:off x="395280" y="4221000"/>
            <a:ext cx="77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Ewentualne koszty dodatkow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Koszty egzekucji (już przy wartości przedmiotu sporu 2 000 zł ten sięga 500 zł)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Koszty stawiennictwa świadków i stron utracona dniówka świadków i stron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Opłaty kancelaryjne, tłumaczenia, czynności komornicze, inn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23640" y="201240"/>
            <a:ext cx="8189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iele perspektyw /PRZYKŁADY/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0" name="Symbol zastępczy zawartości 3" descr=""/>
          <p:cNvPicPr/>
          <p:nvPr/>
        </p:nvPicPr>
        <p:blipFill>
          <a:blip r:embed="rId1"/>
          <a:stretch/>
        </p:blipFill>
        <p:spPr>
          <a:xfrm>
            <a:off x="249120" y="835200"/>
            <a:ext cx="874260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250560" y="767880"/>
            <a:ext cx="856908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0504d"/>
                </a:solidFill>
                <a:latin typeface="Calibri"/>
              </a:rPr>
              <a:t>Ubezpieczenia Ochrony Prawnej stanowią (powinny) naturalne uzupełnienie dla umów Odpowiedzialności Cywilnej (gr 13)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DLACZEGO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Diagram 1" descr=""/>
          <p:cNvPicPr/>
          <p:nvPr/>
        </p:nvPicPr>
        <p:blipFill>
          <a:blip r:embed="rId1"/>
          <a:stretch/>
        </p:blipFill>
        <p:spPr>
          <a:xfrm>
            <a:off x="298440" y="993600"/>
            <a:ext cx="849168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Rynek ubezpieczeń 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Ochrony Prawnej w Polsc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189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Ochrona Prawna – rynek polski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178920" y="1050840"/>
            <a:ext cx="865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Verdana"/>
                <a:ea typeface="Verdana"/>
              </a:rPr>
              <a:t>20 polskich zakładów ubezpieczeń ma zezwolenie na grupę 17 (Ochrona Prawna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92160" algn="ctr">
              <a:lnSpc>
                <a:spcPct val="2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9216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Verdana"/>
                <a:ea typeface="Verdana"/>
              </a:rPr>
              <a:t>20 ubezpieczycieli ma w ofercie jakiekolwiek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9216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Verdana"/>
                <a:ea typeface="Verdana"/>
              </a:rPr>
              <a:t>ubezpieczenie szeroko rozumianej OP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92160" algn="ctr">
              <a:lnSpc>
                <a:spcPct val="2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92160" algn="ctr">
              <a:lnSpc>
                <a:spcPct val="2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Verdana"/>
                <a:ea typeface="Verdana"/>
              </a:rPr>
              <a:t>Przypis w gr. 17 za 2018 r.: 100 mln PL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189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53735"/>
                </a:solidFill>
                <a:latin typeface="Calibri"/>
              </a:rPr>
              <a:t>Ochrona Prawn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250560" y="83664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53735"/>
                </a:solidFill>
                <a:latin typeface="Calibri"/>
              </a:rPr>
              <a:t>1. Idea ubezpieczenia Ochrony Prawnej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53735"/>
                </a:solidFill>
                <a:latin typeface="Calibri"/>
              </a:rPr>
              <a:t>2. Korzyści dla Klienta i Pośrednik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1224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12244"/>
              </a:solidFill>
              <a:latin typeface="Verdana"/>
            </a:endParaRPr>
          </a:p>
        </p:txBody>
      </p:sp>
      <p:pic>
        <p:nvPicPr>
          <p:cNvPr id="635" name="Obraz 3" descr=""/>
          <p:cNvPicPr/>
          <p:nvPr/>
        </p:nvPicPr>
        <p:blipFill>
          <a:blip r:embed="rId1"/>
          <a:stretch/>
        </p:blipFill>
        <p:spPr>
          <a:xfrm>
            <a:off x="4284720" y="2970360"/>
            <a:ext cx="42829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189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Charakterystyka rynku (ujęcie subiektywne</a:t>
            </a:r>
            <a:r>
              <a:rPr b="1" lang="pl-P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20400" y="1050840"/>
            <a:ext cx="842796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200000"/>
              </a:lnSpc>
              <a:spcBef>
                <a:spcPts val="1001"/>
              </a:spcBef>
              <a:buClr>
                <a:srgbClr val="912244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k 10% przypisu pochodzi ze sprzedaży stand alon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200000"/>
              </a:lnSpc>
              <a:spcBef>
                <a:spcPts val="1001"/>
              </a:spcBef>
              <a:buClr>
                <a:srgbClr val="912244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duże i zmienne wolumeny generowane na rynku bancassuranc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200000"/>
              </a:lnSpc>
              <a:spcBef>
                <a:spcPts val="1001"/>
              </a:spcBef>
              <a:buClr>
                <a:srgbClr val="912244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geograficzny podział Polski – znajomość produktu lub marki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200000"/>
              </a:lnSpc>
              <a:spcBef>
                <a:spcPts val="1001"/>
              </a:spcBef>
              <a:buClr>
                <a:srgbClr val="912244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chrona Prawna nie jest produktem „porównania” – Klient nie sprawdza czy gdzieś jest taniej, ale polski konsument jest wrażliwy na cenę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200000"/>
              </a:lnSpc>
              <a:spcBef>
                <a:spcPts val="1001"/>
              </a:spcBef>
              <a:buClr>
                <a:srgbClr val="912244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ośrednik największym potencjałem dla Ochrony Prawnej – również jako Klient =&gt; Pośrednik, który sam ma ubezpieczenie OP poleci je swoim Klientom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e tekstowe 9"/>
          <p:cNvSpPr/>
          <p:nvPr/>
        </p:nvSpPr>
        <p:spPr>
          <a:xfrm>
            <a:off x="250920" y="115920"/>
            <a:ext cx="7967520" cy="59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0504d"/>
                </a:solidFill>
                <a:latin typeface="Calibri"/>
                <a:ea typeface="Arial"/>
              </a:rPr>
              <a:t>Potencjał rozwojowy w Pols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c0504d"/>
                </a:solidFill>
                <a:latin typeface="Calibri"/>
                <a:ea typeface="Arial"/>
              </a:rPr>
              <a:t>*dane wg Międzynarodowego Stowarzyszenia Ubezpieczycieli Ochrony Prawnej i Dostawców Usług Prawnych z siedzibą w Brukseli – RIAD oraz dane wg KNF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0" name="Wykres 6"/>
          <p:cNvGraphicFramePr/>
          <p:nvPr/>
        </p:nvGraphicFramePr>
        <p:xfrm>
          <a:off x="290520" y="1003320"/>
          <a:ext cx="8067600" cy="403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1" name="Wykres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1003320"/>
                    <a:ext cx="806760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Tytuł 1"/>
          <p:cNvSpPr/>
          <p:nvPr/>
        </p:nvSpPr>
        <p:spPr>
          <a:xfrm>
            <a:off x="2071800" y="2928960"/>
            <a:ext cx="65293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Dziękujemy za uwag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189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53735"/>
                </a:solidFill>
                <a:latin typeface="Calibri"/>
              </a:rPr>
              <a:t>Ochrona Prawn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250560" y="83664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953735"/>
                </a:solidFill>
                <a:latin typeface="Calibri"/>
                <a:ea typeface="Arial"/>
              </a:rPr>
              <a:t>Trochę historii: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  <a:ea typeface="Verdana"/>
              </a:rPr>
              <a:t>Ubezpieczenie ochrony prawnej wyodrębniło się jako samodzielny rodzaj ubezpieczenia dość późno – w społeczeństwie średniowiecznym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  <a:ea typeface="Verdana"/>
              </a:rPr>
              <a:t>Genezy ochrony prawnej upatruje się w działalności gildii i cechów rzemieślniczych, które wśród swoich zadań miały także wsparcie swoich członków w przypadku wystąpienia sporów prawnych. Gildie kupieckie aż do XVIII w. miały zapisy statutowe, dotyczące szczególnego prawa do odszkodowania pieniężnego w postaci ochrony prawnej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  <a:ea typeface="Verdana"/>
              </a:rPr>
              <a:t>Rozwój spółdzielczego dochodzenia prawa na przełomie XIX i XX w. utorował drogę do rozwoju nowoczesnych form ubezpieczenia ochrony prawnej.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1224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12244"/>
              </a:solidFill>
              <a:latin typeface="Verdana"/>
            </a:endParaRPr>
          </a:p>
        </p:txBody>
      </p:sp>
      <p:pic>
        <p:nvPicPr>
          <p:cNvPr id="638" name="Obraz 4" descr=""/>
          <p:cNvPicPr/>
          <p:nvPr/>
        </p:nvPicPr>
        <p:blipFill>
          <a:blip r:embed="rId1"/>
          <a:stretch/>
        </p:blipFill>
        <p:spPr>
          <a:xfrm>
            <a:off x="7467480" y="4384800"/>
            <a:ext cx="149868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189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53735"/>
                </a:solidFill>
                <a:latin typeface="Calibri"/>
              </a:rPr>
              <a:t>Ochrona prawna w Europi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250560" y="83664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51"/>
              </a:spcBef>
              <a:buClr>
                <a:srgbClr val="912244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  <a:ea typeface="Verdana"/>
              </a:rPr>
              <a:t>Francja –  Sou Medical w 1897 pierwsze ubezpieczenie ochrony prawnej  lekarzy – zabezpieczenie przed błędami medycznymi (ok. 70% obywateli posiada polisę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51"/>
              </a:spcBef>
              <a:buClr>
                <a:srgbClr val="912244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51"/>
              </a:spcBef>
              <a:buClr>
                <a:srgbClr val="912244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  <a:ea typeface="Verdana"/>
              </a:rPr>
              <a:t>Niemcy – początek ubezpieczeń Ochrony Prawnej: 1917 r.; D.A.S. od 1928 r. prowadzi działalność w zakresie ochrony prawnej, ARAG od 1935 r.; pierwsze polisy, dotyczyły ochrony w zakresie komunikacji - pojazdy uszkodzone w czasie wyścigów; spory sądowe i pozasądowe (mediacje). W dalszej kolejności Ubezpieczyciele zaczęli oferować ochronę prawną w zakresie prawa pracy i ubezpieczeń społecznych, prawa prywatnego i karnego oraz ochroną prawną przedsiębiorcy. Najbardziej powszechna forma umowy – ubezpieczenie indywidualne  (ponad 80% obywateli z polisą OP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1224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12244"/>
              </a:solidFill>
              <a:latin typeface="Verdana"/>
            </a:endParaRPr>
          </a:p>
        </p:txBody>
      </p:sp>
      <p:pic>
        <p:nvPicPr>
          <p:cNvPr id="641" name="Obraz 5" descr=""/>
          <p:cNvPicPr/>
          <p:nvPr/>
        </p:nvPicPr>
        <p:blipFill>
          <a:blip r:embed="rId1"/>
          <a:stretch/>
        </p:blipFill>
        <p:spPr>
          <a:xfrm>
            <a:off x="7667640" y="4521240"/>
            <a:ext cx="146988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189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53735"/>
                </a:solidFill>
                <a:latin typeface="Calibri"/>
              </a:rPr>
              <a:t>Ochrona prawna w Europi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250560" y="83664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  <a:ea typeface="Verdana"/>
              </a:rPr>
              <a:t>3. Austria – zasady ubezpieczenia podobnie jak w Niemczech; wysoko wyspecjalizowane produkty, obejmujące wiele dziedzin prawa (w tym także prawo rodzinne i spadkowe); dominująca forma umowy: indywidualna, nasycenie ok. 85%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  <a:ea typeface="Verdana"/>
              </a:rPr>
              <a:t>4. Wielka Brytania i Irlandia – z uwagi na specyfikę rynku, większość polis jest sprzedawana jako opcja dodatkowa do ubezpieczeń komunikacyjnych, mieszkaniowych lub dla małych i średnich firm (nasycenie rynku ok. 60%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  <a:ea typeface="Verdana"/>
              </a:rPr>
              <a:t>5. Skandynawia – model ubezpieczenia ochrony prawnej – mieszany: zarówno produkty indywidualne, jak i dodawane do innych produktów i umów (np. umowy najmu); ponad 90% obywateli posiada ubezpieczenie ochrony prawnej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92160">
              <a:lnSpc>
                <a:spcPct val="100000"/>
              </a:lnSpc>
              <a:spcBef>
                <a:spcPts val="400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91224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1224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12244"/>
              </a:solidFill>
              <a:latin typeface="Verdana"/>
            </a:endParaRPr>
          </a:p>
        </p:txBody>
      </p:sp>
      <p:pic>
        <p:nvPicPr>
          <p:cNvPr id="644" name="Obraz 5" descr=""/>
          <p:cNvPicPr/>
          <p:nvPr/>
        </p:nvPicPr>
        <p:blipFill>
          <a:blip r:embed="rId1"/>
          <a:stretch/>
        </p:blipFill>
        <p:spPr>
          <a:xfrm>
            <a:off x="7667640" y="4521240"/>
            <a:ext cx="146988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51364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Jak rozwiązać problem prawny? </a:t>
            </a:r>
            <a:br>
              <a:rPr sz="18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20760" y="1050480"/>
            <a:ext cx="85168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200000"/>
              </a:lnSpc>
              <a:spcBef>
                <a:spcPts val="601"/>
              </a:spcBef>
              <a:buClr>
                <a:srgbClr val="912244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„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Po znajomości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200000"/>
              </a:lnSpc>
              <a:spcBef>
                <a:spcPts val="601"/>
              </a:spcBef>
              <a:buClr>
                <a:srgbClr val="912244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Usługi „pro bono”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200000"/>
              </a:lnSpc>
              <a:spcBef>
                <a:spcPts val="601"/>
              </a:spcBef>
              <a:buClr>
                <a:srgbClr val="912244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Kancelarie odszkodowawcz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200000"/>
              </a:lnSpc>
              <a:spcBef>
                <a:spcPts val="601"/>
              </a:spcBef>
              <a:buClr>
                <a:srgbClr val="912244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„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Odpuszczam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200000"/>
              </a:lnSpc>
              <a:spcBef>
                <a:spcPts val="601"/>
              </a:spcBef>
              <a:buClr>
                <a:srgbClr val="912244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Idę do prawnika i płacę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200000"/>
              </a:lnSpc>
              <a:spcBef>
                <a:spcPts val="601"/>
              </a:spcBef>
              <a:buClr>
                <a:srgbClr val="912244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Mec. Googl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7" name="Obraz 3" descr=""/>
          <p:cNvPicPr/>
          <p:nvPr/>
        </p:nvPicPr>
        <p:blipFill>
          <a:blip r:embed="rId1"/>
          <a:stretch/>
        </p:blipFill>
        <p:spPr>
          <a:xfrm>
            <a:off x="5497560" y="4052880"/>
            <a:ext cx="352908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51400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Jak rozwiązać problem prawny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20760" y="1050480"/>
            <a:ext cx="85168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53735"/>
                </a:solidFill>
                <a:latin typeface="Calibri"/>
                <a:ea typeface="Arial"/>
              </a:rPr>
              <a:t>Skorzystać z ubezpieczenia Ochrony Prawnej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0" name="Obraz 5" descr=""/>
          <p:cNvPicPr/>
          <p:nvPr/>
        </p:nvPicPr>
        <p:blipFill>
          <a:blip r:embed="rId1"/>
          <a:stretch/>
        </p:blipFill>
        <p:spPr>
          <a:xfrm>
            <a:off x="3321000" y="2216160"/>
            <a:ext cx="2951280" cy="3805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Obraz 2" descr=""/>
          <p:cNvPicPr/>
          <p:nvPr/>
        </p:nvPicPr>
        <p:blipFill>
          <a:blip r:embed="rId1"/>
          <a:stretch/>
        </p:blipFill>
        <p:spPr>
          <a:xfrm>
            <a:off x="1457280" y="1052640"/>
            <a:ext cx="5923080" cy="509256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189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mienne i skomplikowane praw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ole tekstowe 6"/>
          <p:cNvSpPr/>
          <p:nvPr/>
        </p:nvSpPr>
        <p:spPr>
          <a:xfrm>
            <a:off x="631800" y="3789360"/>
            <a:ext cx="17478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Calibri"/>
              </a:rPr>
              <a:t>27 118 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stron w ciągu rok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ole tekstowe 7"/>
          <p:cNvSpPr/>
          <p:nvPr/>
        </p:nvSpPr>
        <p:spPr>
          <a:xfrm>
            <a:off x="3827520" y="3795840"/>
            <a:ext cx="1620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Calibri"/>
              </a:rPr>
              <a:t>108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stron dzienni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ole tekstowe 8"/>
          <p:cNvSpPr/>
          <p:nvPr/>
        </p:nvSpPr>
        <p:spPr>
          <a:xfrm>
            <a:off x="6519960" y="3798720"/>
            <a:ext cx="17492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Calibri"/>
              </a:rPr>
              <a:t>prawie 4  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godziny dzienni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6" name="Obraz 1" descr=""/>
          <p:cNvPicPr/>
          <p:nvPr/>
        </p:nvPicPr>
        <p:blipFill>
          <a:blip r:embed="rId1"/>
          <a:stretch/>
        </p:blipFill>
        <p:spPr>
          <a:xfrm>
            <a:off x="6334200" y="1878120"/>
            <a:ext cx="2357280" cy="1655640"/>
          </a:xfrm>
          <a:prstGeom prst="rect">
            <a:avLst/>
          </a:prstGeom>
          <a:ln w="0">
            <a:noFill/>
          </a:ln>
        </p:spPr>
      </p:pic>
      <p:pic>
        <p:nvPicPr>
          <p:cNvPr id="657" name="Obraz 5" descr=""/>
          <p:cNvPicPr/>
          <p:nvPr/>
        </p:nvPicPr>
        <p:blipFill>
          <a:blip r:embed="rId2"/>
          <a:stretch/>
        </p:blipFill>
        <p:spPr>
          <a:xfrm>
            <a:off x="444600" y="1868400"/>
            <a:ext cx="2496960" cy="1665360"/>
          </a:xfrm>
          <a:prstGeom prst="rect">
            <a:avLst/>
          </a:prstGeom>
          <a:ln w="0">
            <a:noFill/>
          </a:ln>
        </p:spPr>
      </p:pic>
      <p:pic>
        <p:nvPicPr>
          <p:cNvPr id="658" name="Obraz 9" descr=""/>
          <p:cNvPicPr/>
          <p:nvPr/>
        </p:nvPicPr>
        <p:blipFill>
          <a:blip r:embed="rId3"/>
          <a:stretch/>
        </p:blipFill>
        <p:spPr>
          <a:xfrm>
            <a:off x="3398760" y="1868400"/>
            <a:ext cx="247824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8T10:27:06Z</dcterms:created>
  <dc:creator>jarecki</dc:creator>
  <dc:description/>
  <dc:language>en-US</dc:language>
  <cp:lastModifiedBy>Renata Orzechowska</cp:lastModifiedBy>
  <cp:lastPrinted>2019-10-22T11:32:33Z</cp:lastPrinted>
  <dcterms:modified xsi:type="dcterms:W3CDTF">2019-11-20T11:41:08Z</dcterms:modified>
  <cp:revision>97</cp:revision>
  <dc:subject/>
  <dc:title>Slajd 1</dc:title>
</cp:coreProperties>
</file>