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8A93-CA6C-4A93-9EAF-BDDA218100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ormowanie o obowiązującym prawie, przysługujących jednostce prawach i obowiązkac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skazanie osobie sposobu rozwiązania jej problemu prawnego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orządzenie pism procesowych np. pozew, apelacja, odpowiedz na pozew, oraz innych dokumentów wymagających wiedzy prawniczej np. umow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ełnomocnik reprezentuje osobę, od której otrzymał pełnomocnictwo, np. w negocjacjach z drugą stroną sporu, w postępowaniu mediacyjnym, przed sądem w sprawach cywilnych, administracyjnych. Obrońca – oskarżonego w postępowaniu karnym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ystem nieodpłatnej pomocy prawnej – od 2016 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d 2019 r. osobą upoważnioną do skorzystania nieodpłatnej pomocy prawnej jest każdy, kto złoży oświadczenie, że nie jest w stanie ponieść kosztów odpłatnej pomocy prawnej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ie obejmuje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raw związanych z prowadzeniem działalności gospodarczej, z wyjątkiem przygotowania do rozpoczęcia tej działalności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orządzania pism procesowych, z wyjątkiem pisma o zwolnienie od kosztów sądowych, ustanowienie pełnomocnika z urzędu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bejmuje poradnictwo z każdej dziedziny prawa, mediację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Udziela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ca prawny lub adwok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 uzasadnionych wypadkach, aplikant z upoważnienia r.pr. lub adw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 ramach organizacji pozarządowych – mgr. prawa z co najmniej 3letnim doświadczeniem oraz doradca podatkowy w zakresie prawa podatkowego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stępowaniu strona może działać osobiście bądź przez pełnomocni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łnomocnictwo powstaje na mocy czynności prawnej tzn. strona ustanawia osobę, która będzie dokonywała za nią określonych czynności przed sądem lub urzędem lub w rozmowach z innymi osob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stęp. adm. każda osoba, która posiada pełną zdolność do czynności prawnych. Z wyjątkami, np. w spr. przed Urzędem Patentowym w sprawie zgłoszenia patentu wymagany jest przymus adwokacko-radcowski – rzecznik patentow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stępowaniu cywilnym – wymienione osoby. Poza tym w postępowaniu sądowo-administracyjnym może być jeszcze doradca podatkow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EE0-C9F4-4CD1-AC28-67173A97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747-7F85-4659-BC47-99580650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AF7-FCF8-491E-8D13-5787AB99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001-8111-4AEB-89A9-F1F3C6E8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801-A7DC-42EC-BC12-89BAAF99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C9D4-30C8-4139-8892-5F21AE26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C6C1-35A3-455C-873B-C7B18DD1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23A0-7E8A-4E7A-8358-98B95BC3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FD59-8621-436D-A8B7-A24A4CB3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EBC2-DA1C-4AC4-8040-54A8B9B9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CDC-6B2C-4771-A9D8-16FE19C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2BE-760E-42DB-B28A-773C4376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9E72-27FF-4749-92CF-D5D5C051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A8F8-1790-4E1C-82CA-A5DC2651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6124-A436-4366-83D9-9232321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D9DC-4643-464C-876A-A8787CB8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CD75-3761-4E74-B7BF-3AE83C75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EF2-EAC2-479F-8AF6-28D33076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249-ADCC-47C7-9742-EAD71E3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C91-DCBD-4A4A-9ABA-8EC26217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BED-E602-4A04-8166-591B8F55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60D-8CB9-488F-94E9-DE9DC08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ADD-86DE-43C7-A441-5039731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CF0-695D-433B-8B2D-CBF463A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A7B7-7E30-4EF5-93E7-51235EDE40D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038B-BB26-4BD9-8A30-C0C5F6EA1CAE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R.Orzechowska@piu.org.pl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ytuł 1"/>
          <p:cNvSpPr/>
          <p:nvPr/>
        </p:nvSpPr>
        <p:spPr>
          <a:xfrm>
            <a:off x="2071800" y="2708280"/>
            <a:ext cx="6529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la profesjonalnego pełnomocnika w rozwiązywaniu problemów praw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dtytuł 2"/>
          <p:cNvSpPr/>
          <p:nvPr/>
        </p:nvSpPr>
        <p:spPr>
          <a:xfrm>
            <a:off x="2071800" y="3500280"/>
            <a:ext cx="5843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czecina, 19 listopada 2019 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2"/>
          <p:cNvSpPr/>
          <p:nvPr/>
        </p:nvSpPr>
        <p:spPr>
          <a:xfrm>
            <a:off x="2162160" y="5445000"/>
            <a:ext cx="64389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nata Orzechows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espół ds. ubezpieczeń ochrony prawnej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lska Izba Ubezpiecze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moc prawna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790560"/>
            <a:ext cx="864072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0200" indent="-33912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Na czym polega świadczenie pomocy prawnej?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Udzielanie informacji prawnej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Udzielanie porad prawnych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Sporządzanie pism procesowych lub umów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Występowanie w charakterze pełnomocnika lub obrońcy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marL="430200" indent="-33912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to może świadczyć pomoc prawną?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</a:rPr>
              <a:t>Radcowie prawni, adwokaci, notariusze, doradcy podatkowi, itd.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</a:rPr>
              <a:t>Prawnicy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</a:rPr>
              <a:t>Rzecznicy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</a:rPr>
              <a:t>Uniwersyteckie poradnie prawne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</a:rPr>
              <a:t>Organizacje społeczne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</a:rPr>
              <a:t>Instytucje publiczne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</a:rPr>
              <a:t>(…)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ystem nieodpłatnej pomocy prawnej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ełnomocnik procesowy a profesjonalny pełnomocnik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0560" y="790560"/>
            <a:ext cx="87138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4880" indent="-34272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4880" indent="-34272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  <a:ea typeface="Calibri"/>
              </a:rPr>
              <a:t>Kto może być pełnomocnikiem procesowym?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adwokat 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radca prawny 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rzecznik patentowy 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doradca restrukturyzacyjny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osoba sprawująca zarząd majątkiem lub interesami strony 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osoba pozostająca ze stroną w stałym stosunku zlecenia, jeżeli przedmiot sprawy wchodzi w zakres tego zlecenia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współuczestnik sporu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małżonek, rodzeństwo, zstępni lub wstępni strony oraz osoby pozostające ze stroną w stosunku przysposobienia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pracownik osoby prawnej lub jej organów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sędzia, prokurator, notariusz albo profesor lub doktor habilitowany nauk prawnych, radca Prokuratorii Generalnej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  <a:ea typeface="Calibri"/>
              </a:rPr>
              <a:t>inne osoby, jeżeli przewidują to przepisy szczególne.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marL="434880" indent="-34272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Co to znaczy „profesjonalny” pełnomocnik?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12244"/>
                </a:solidFill>
                <a:latin typeface="Calibri"/>
              </a:rPr>
              <a:t>Osoby posiadające kwalifikacje zawodowe np. radca prawny, adwokat, rzecznik patentowy, itd. </a:t>
            </a: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ecyfika zawodu radcy prawneg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790560"/>
            <a:ext cx="87138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1560" indent="-33228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1560" indent="-33228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Z czym wiąże się posiadanie tytułu radcy prawnego?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1560" indent="-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1560" indent="-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„</a:t>
            </a:r>
            <a:r>
              <a:rPr b="1" i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Świadczenie pomocy prawnej przez radcę prawnego polega w szczególności na udzielaniu porad i konsultacji prawnych, sporządzaniu opinii prawnych, opracowywaniu projektów aktów prawnych oraz występowaniu przed urzędami i sądami w charakterze pełnomocnika lub obrońcy.”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1560" indent="-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Zawód zaufania publicznego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Tytuł radcy prawnego podlega ochronie prawnej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Wymogi uzyskania prawa od tytułu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Standardy postępowania określone przez przepisy oraz zasady etyki zawodu radcy prawnego 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Odpowiedzialność dyscyplinarna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Obowiązek posiadania ubezpieczenia OC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Obowiązek szkoleniowy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Przymus adwokacki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Tajemnica zawodowa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ecyfika zawodu radcy prawneg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790560"/>
            <a:ext cx="87138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4880" indent="-34272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4880" indent="-3427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Co oznacza dla klienta, że radca prawny podlega zasadom etyki?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Tajemnica zawodowa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Lojalność wobec klienta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Obowiązek dbania o interes klienta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Zasady rozliczania się z klientem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Zasady komunikacji z klientem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Unikanie konflikt interesów </a:t>
            </a:r>
            <a:endParaRPr b="0" lang="en-US" sz="16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adca prawny w sądzie i urzędzi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790560"/>
            <a:ext cx="87138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0200" indent="-339120" algn="ctr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Czy rozstrzygnięcia sądu są sprawiedliwe?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Kontradyktoryjność postępowania cywilnego        vs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inkwizycyjność postępowania karnego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dwie równorzędne strony 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                    oskarżony – oskarżyciel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sąd jest obserwatorem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sąd ma prawo i obowiązek poszukiwania 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dowodów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Postępowanie administracyjn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vs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postępowanie administracyjno-sądowe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organ administracji ma obowiązek zebrać dowody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spór z urzędem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strona: zainteresowany – organ 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sąd nie rozstrzyga sporu co do istoty 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- uchyla decyzję organu lub oddala 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	</a:t>
            </a: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skargę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Co ma znaczenie dla rozstrzygnięcia sporu?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znajomość przepisów prawa i dorobku orzecznictwa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umiejętność powoływania się na poglądy doktryny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391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12244"/>
                </a:solidFill>
                <a:latin typeface="Calibri"/>
                <a:ea typeface="Calibri"/>
              </a:rPr>
              <a:t>doświadczenie i obycie procesowe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92000" indent="-3394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792000" indent="-3394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wnik w ubezpieczeniu ochrony prawnej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560" y="790560"/>
            <a:ext cx="87138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4880" indent="-342720" algn="ctr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4880" indent="-3427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4880" indent="-3427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Reprezentowanie lub wspierania interesów ubezpieczonego w postępowaniu sądowym lub administracyjny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4880" indent="-3427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4880" indent="-342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4880" indent="-3427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Obszar pozasądowy - udzielanie porad prawnych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4880" indent="-342720" algn="just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ytuł 1"/>
          <p:cNvSpPr/>
          <p:nvPr/>
        </p:nvSpPr>
        <p:spPr>
          <a:xfrm>
            <a:off x="2071800" y="2928960"/>
            <a:ext cx="6529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ziękujemy za uwag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ytuł 1"/>
          <p:cNvSpPr/>
          <p:nvPr/>
        </p:nvSpPr>
        <p:spPr>
          <a:xfrm>
            <a:off x="2143080" y="2643120"/>
            <a:ext cx="6386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tak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lska Izba Ubezpiecze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4"/>
          <p:cNvSpPr/>
          <p:nvPr/>
        </p:nvSpPr>
        <p:spPr>
          <a:xfrm>
            <a:off x="2143080" y="3510000"/>
            <a:ext cx="32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Renata Orzechows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lska Izba Ubezpiecze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Tel.: +48 22 420 51 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.Orzechowska@piu.org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4"/>
          <p:cNvSpPr/>
          <p:nvPr/>
        </p:nvSpPr>
        <p:spPr>
          <a:xfrm>
            <a:off x="2143080" y="5715000"/>
            <a:ext cx="671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iniejsza prezentacja jest chroniona prawami autorskimi i wyłącznie uprawnione z tytułu takich praw podmioty mają prawo do korzystania z prezentacji. Żadna jego część nie może być kopiowana bądź wykorzystywana przez jakąkolwiek osobę trzecią, w tym w szczególności do celów komercyjnych, bez uzyskania pisemnej zgody Polskiej Izby Ubezpieczeń. W przypadku cytowania fragmentów raportu należy wskazać jego źródło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0:27:06Z</dcterms:created>
  <dc:creator>Dział PR &amp; Marketing</dc:creator>
  <dc:description/>
  <dc:language>en-US</dc:language>
  <cp:lastModifiedBy>Renata Orzechowska</cp:lastModifiedBy>
  <dcterms:modified xsi:type="dcterms:W3CDTF">2019-11-20T11:46:01Z</dcterms:modified>
  <cp:revision>82</cp:revision>
  <dc:subject/>
  <dc:title>wzór prezentacji PIU</dc:title>
</cp:coreProperties>
</file>