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00BA1-29D8-4E23-B642-7C26240F3BA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4bacc6"/>
                </a:solidFill>
                <a:latin typeface="Calibri"/>
              </a:rPr>
              <a:t>PRZYKŁADOWY SCENARIUSZ</a:t>
            </a:r>
            <a:br>
              <a:rPr sz="1200"/>
            </a:br>
            <a:r>
              <a:rPr b="0" lang="pl-PL" sz="1200" spc="-1" strike="noStrike">
                <a:solidFill>
                  <a:srgbClr val="4bacc6"/>
                </a:solidFill>
                <a:latin typeface="Calibri"/>
              </a:rPr>
              <a:t>…………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23433-2B77-42A2-9D9C-8E02AB5D2CD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4bacc6"/>
                </a:solidFill>
                <a:latin typeface="Calibri"/>
              </a:rPr>
              <a:t>PRZYKŁADOWY SCENARIUSZ</a:t>
            </a:r>
            <a:br>
              <a:rPr sz="1200"/>
            </a:br>
            <a:r>
              <a:rPr b="0" lang="pl-PL" sz="1200" spc="-1" strike="noStrike">
                <a:solidFill>
                  <a:srgbClr val="4bacc6"/>
                </a:solidFill>
                <a:latin typeface="Calibri"/>
              </a:rPr>
              <a:t>…………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4E2E7-4C24-41CF-85CB-5F0DABCD05F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4bacc6"/>
                </a:solidFill>
                <a:latin typeface="Calibri"/>
              </a:rPr>
              <a:t>PRZYKŁADOWY SCENARIUSZ</a:t>
            </a:r>
            <a:br>
              <a:rPr sz="1200"/>
            </a:br>
            <a:r>
              <a:rPr b="0" lang="pl-PL" sz="1200" spc="-1" strike="noStrike">
                <a:solidFill>
                  <a:srgbClr val="4bacc6"/>
                </a:solidFill>
                <a:latin typeface="Calibri"/>
              </a:rPr>
              <a:t>…………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ABC14-28A7-409D-AF7C-FD546357DB5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4bacc6"/>
                </a:solidFill>
                <a:latin typeface="Calibri"/>
              </a:rPr>
              <a:t>PRZYKŁADOWY SCENARIUSZ</a:t>
            </a:r>
            <a:br>
              <a:rPr sz="1200"/>
            </a:br>
            <a:r>
              <a:rPr b="0" lang="pl-PL" sz="1200" spc="-1" strike="noStrike">
                <a:solidFill>
                  <a:srgbClr val="4bacc6"/>
                </a:solidFill>
                <a:latin typeface="Calibri"/>
              </a:rPr>
              <a:t>…………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3F403-DD70-443F-BEA4-3A28B36407F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3507-7EEB-4495-9AC9-BE6860F95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563A-14DC-4D6E-B153-53A529F57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D711-35EF-4F9B-8312-30D4A85ED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37F6-FA92-453D-9EAA-69E63CFE6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50292-0EDC-4539-A34D-661E31419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80F3A-01FB-4276-99E8-7AC2E3A78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B4DF2-3FD6-46EA-B59B-E01235CFE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CC325-6699-4D10-87A7-7606D7D2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7B477-D942-4A95-A8F9-9CF9F611A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84237-88CF-4D29-A981-BA516D25E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B3C4C-64C0-4EDD-B0FC-9054C70F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D28E-993E-4F88-B842-9589315B1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FBA91-7803-47F8-8B7B-8DE23B8F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342C9-09E4-4E0A-8364-F7757B54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C6EF1-B79A-4B84-A19C-2DED5D4FB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35B32-4FF9-4781-A062-AAF38C349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D953A-9261-4D24-A531-C9F293F63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4438-A360-47C7-B4E5-5D32C70B7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835F-A308-4A71-B9EB-39D5A6F63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9192-DAD3-43CA-95BF-7043B3035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6E79-7033-4311-BEE4-5A9D5C2A8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4EFE-4D33-4710-B512-DBD16A4E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C59A-57E9-47FE-9F95-B45B48ED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2EE8-BB2D-4383-946F-5AA20039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6CB57-5399-4B0A-B1E0-3191A1731D79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Obraz 7" descr="6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Obraz 7" descr="8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213840"/>
            <a:ext cx="80755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16080" y="104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263520">
              <a:spcBef>
                <a:spcPts val="400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01920" y="6447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EEDDB-0DC2-4729-AA84-147395126054}" type="slidenum">
              <a:rPr b="0" lang="pl-PL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Obraz 7" descr="6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16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ytuł 1"/>
          <p:cNvSpPr/>
          <p:nvPr/>
        </p:nvSpPr>
        <p:spPr>
          <a:xfrm>
            <a:off x="2071800" y="2205000"/>
            <a:ext cx="65293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  <a:ea typeface="Arial"/>
              </a:rPr>
              <a:t>Ubezpieczenie ochrony prawnej – zakres, ustalenie odpowiedzialności, proces likwidacji szkó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odtytuł 2"/>
          <p:cNvSpPr/>
          <p:nvPr/>
        </p:nvSpPr>
        <p:spPr>
          <a:xfrm>
            <a:off x="2071800" y="3500280"/>
            <a:ext cx="5843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  <a:ea typeface="Arial"/>
              </a:rPr>
              <a:t>Szczecin, 19 listopada 2019 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ole tekstowe 1"/>
          <p:cNvSpPr/>
          <p:nvPr/>
        </p:nvSpPr>
        <p:spPr>
          <a:xfrm>
            <a:off x="2071800" y="5373720"/>
            <a:ext cx="52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  <a:ea typeface="Arial"/>
              </a:rPr>
              <a:t>Anna Oleksi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  <a:ea typeface="Arial"/>
              </a:rPr>
              <a:t>Zespół ds. ubezpieczeń ochrony prawnej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  <a:ea typeface="Arial"/>
              </a:rPr>
              <a:t>Polska Izba Ubezpiecze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3640" y="213840"/>
            <a:ext cx="8189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53735"/>
                </a:solidFill>
                <a:latin typeface="Calibri"/>
              </a:rPr>
              <a:t>Proces likwidacji szkó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50560" y="836280"/>
            <a:ext cx="87152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Art. 27 ustawy o działalności ubezpieczeniowej i reasekuracyjnej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5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  <a:ea typeface="Verdana"/>
              </a:rPr>
              <a:t>W ramach ubezpieczenia ochrony prawnej Ubezpieczonemu przysługuje</a:t>
            </a:r>
            <a:r>
              <a:rPr b="1" lang="pl-PL" sz="2000" spc="-1" strike="noStrike">
                <a:solidFill>
                  <a:srgbClr val="953735"/>
                </a:solidFill>
                <a:latin typeface="Calibri"/>
                <a:ea typeface="Verdana"/>
              </a:rPr>
              <a:t> prawo swobodnego wyboru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  <a:ea typeface="Verdana"/>
              </a:rPr>
              <a:t>adwokata lub radcy prawnego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5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  <a:ea typeface="Verdana"/>
              </a:rPr>
              <a:t>Zakład ubezpieczeń zapewnia </a:t>
            </a:r>
            <a:r>
              <a:rPr b="1" lang="pl-PL" sz="2000" spc="-1" strike="noStrike">
                <a:solidFill>
                  <a:srgbClr val="953735"/>
                </a:solidFill>
                <a:latin typeface="Calibri"/>
                <a:ea typeface="Verdana"/>
              </a:rPr>
              <a:t>odrębną likwidację szkód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  <a:ea typeface="Verdana"/>
              </a:rPr>
              <a:t>– likwidator zajmujący się szkodami z ubezpieczenia ochrony prawnej nie może likwidować szkód z innych grup ubezpieczeń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50000"/>
              </a:lnSpc>
              <a:buClr>
                <a:srgbClr val="95373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953735"/>
                </a:solidFill>
                <a:latin typeface="Calibri"/>
                <a:ea typeface="Verdana"/>
              </a:rPr>
              <a:t>Ubezpieczyciel nie prowadzi spraw Ubezpieczonego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  <a:ea typeface="Verdana"/>
              </a:rPr>
              <a:t>, nie reprezentuje go, czyni to profesjonalny pełnomocnik – adwokat lub radca prawn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50000"/>
              </a:lnSpc>
              <a:buClr>
                <a:srgbClr val="95373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953735"/>
                </a:solidFill>
                <a:latin typeface="Calibri"/>
                <a:ea typeface="Verdana"/>
              </a:rPr>
              <a:t>Ubezpieczyciel rekompensuje jedynie koszt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Obraz 5" descr=""/>
          <p:cNvPicPr/>
          <p:nvPr/>
        </p:nvPicPr>
        <p:blipFill>
          <a:blip r:embed="rId1"/>
          <a:stretch/>
        </p:blipFill>
        <p:spPr>
          <a:xfrm>
            <a:off x="7227720" y="4724280"/>
            <a:ext cx="1470240" cy="17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3640" y="213840"/>
            <a:ext cx="8189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53735"/>
                </a:solidFill>
                <a:latin typeface="Calibri"/>
              </a:rPr>
              <a:t>Proces likwidacji szkó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50560" y="836280"/>
            <a:ext cx="87152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99"/>
              </a:spcBef>
              <a:buClr>
                <a:srgbClr val="912244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953735"/>
                </a:solidFill>
                <a:latin typeface="Calibri"/>
                <a:ea typeface="Verdana"/>
              </a:rPr>
              <a:t>Zgłoszenie szkod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953735"/>
                </a:solidFill>
                <a:latin typeface="Calibri"/>
                <a:ea typeface="Verdana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  <a:ea typeface="Verdana"/>
              </a:rPr>
              <a:t>Dochowanie przez Ubezpieczonego postanowień umownych dotyczących zgłoszenia szkody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99"/>
              </a:spcBef>
              <a:buClr>
                <a:srgbClr val="912244"/>
              </a:buClr>
              <a:buSzPct val="120000"/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953735"/>
                </a:solidFill>
                <a:latin typeface="Calibri"/>
                <a:ea typeface="Verdana"/>
              </a:rPr>
              <a:t>Analiza stanu faktycznego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99"/>
              </a:spcBef>
              <a:buClr>
                <a:srgbClr val="91224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  <a:ea typeface="Verdana"/>
              </a:rPr>
              <a:t>określenie wypadku ubezpieczeniowego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  <a:ea typeface="Verdana"/>
              </a:rPr>
              <a:t>(co jest zdarzeniem powodującym uruchomienie odpowiedzialności Ubezpieczyciela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99"/>
              </a:spcBef>
              <a:buClr>
                <a:srgbClr val="91224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  <a:ea typeface="Verdana"/>
              </a:rPr>
              <a:t>weryfikacja zakresu ubezpieczenia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  <a:ea typeface="Verdana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  <a:ea typeface="Verdana"/>
              </a:rPr>
              <a:t>(czy problem prawny mieści się w zakresie ubezpieczenia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99"/>
              </a:spcBef>
              <a:buClr>
                <a:srgbClr val="91224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  <a:ea typeface="Verdana"/>
              </a:rPr>
              <a:t>zakres czasowy ochrony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  <a:ea typeface="Verdana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  <a:ea typeface="Verdana"/>
              </a:rPr>
              <a:t>(-czy do wypadku ubezpieczeniowego doszło w okresie ubezpieczenia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  <a:ea typeface="Verdana"/>
              </a:rPr>
              <a:t>-fakt zgłoszenia roszczeń wobec Ubezpieczonego vs. pierwsze naruszenie prawa/umowy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3640" y="213840"/>
            <a:ext cx="8189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53735"/>
                </a:solidFill>
                <a:latin typeface="Calibri"/>
              </a:rPr>
              <a:t>Proces likwidacji szkó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50560" y="836280"/>
            <a:ext cx="87152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99"/>
              </a:spcBef>
              <a:buClr>
                <a:srgbClr val="912244"/>
              </a:buClr>
              <a:buSzPct val="120000"/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953735"/>
                </a:solidFill>
                <a:latin typeface="Calibri"/>
                <a:ea typeface="Verdana"/>
              </a:rPr>
              <a:t>Decyzja o przyjęciu odpowiedzialności za zdarzeni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99"/>
              </a:spcBef>
              <a:buClr>
                <a:srgbClr val="912244"/>
              </a:buClr>
              <a:buSzPct val="120000"/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99"/>
              </a:spcBef>
              <a:buClr>
                <a:srgbClr val="912244"/>
              </a:buClr>
              <a:buSzPct val="120000"/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953735"/>
                </a:solidFill>
                <a:latin typeface="Calibri"/>
                <a:ea typeface="Verdana"/>
              </a:rPr>
              <a:t>Rozliczenie szkod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Diagram 4" descr=""/>
          <p:cNvPicPr/>
          <p:nvPr/>
        </p:nvPicPr>
        <p:blipFill>
          <a:blip r:embed="rId1"/>
          <a:stretch/>
        </p:blipFill>
        <p:spPr>
          <a:xfrm>
            <a:off x="-774720" y="2286000"/>
            <a:ext cx="9937800" cy="4059360"/>
          </a:xfrm>
          <a:prstGeom prst="rect">
            <a:avLst/>
          </a:prstGeom>
          <a:ln w="0">
            <a:noFill/>
          </a:ln>
        </p:spPr>
      </p:pic>
      <p:pic>
        <p:nvPicPr>
          <p:cNvPr id="163" name="Diagram 5" descr=""/>
          <p:cNvPicPr/>
          <p:nvPr/>
        </p:nvPicPr>
        <p:blipFill>
          <a:blip r:embed="rId2"/>
          <a:stretch/>
        </p:blipFill>
        <p:spPr>
          <a:xfrm>
            <a:off x="-914400" y="3608280"/>
            <a:ext cx="10009080" cy="2322720"/>
          </a:xfrm>
          <a:prstGeom prst="rect">
            <a:avLst/>
          </a:prstGeom>
          <a:ln w="0">
            <a:noFill/>
          </a:ln>
        </p:spPr>
      </p:pic>
      <p:grpSp>
        <p:nvGrpSpPr>
          <p:cNvPr id="164" name="Grupa 6"/>
          <p:cNvGrpSpPr/>
          <p:nvPr/>
        </p:nvGrpSpPr>
        <p:grpSpPr>
          <a:xfrm>
            <a:off x="3068640" y="2716200"/>
            <a:ext cx="2046240" cy="716040"/>
            <a:chOff x="3068640" y="2716200"/>
            <a:chExt cx="2046240" cy="716040"/>
          </a:xfrm>
        </p:grpSpPr>
        <p:sp>
          <p:nvSpPr>
            <p:cNvPr id="165" name="Objaśnienie ze strzałką w dół 7"/>
            <p:cNvSpPr/>
            <p:nvPr/>
          </p:nvSpPr>
          <p:spPr>
            <a:xfrm>
              <a:off x="3068640" y="2716200"/>
              <a:ext cx="2046240" cy="716040"/>
            </a:xfrm>
            <a:prstGeom prst="downArrowCallout">
              <a:avLst>
                <a:gd name="adj1" fmla="val 35725"/>
                <a:gd name="adj2" fmla="val 35721"/>
                <a:gd name="adj3" fmla="val 25000"/>
                <a:gd name="adj4" fmla="val 64977"/>
              </a:avLst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Objaśnienie ze strzałką w dół 4"/>
            <p:cNvSpPr/>
            <p:nvPr/>
          </p:nvSpPr>
          <p:spPr>
            <a:xfrm>
              <a:off x="3068640" y="2716200"/>
              <a:ext cx="2046240" cy="465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320" rIns="13320" tIns="13320" bIns="1332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Calibri"/>
                </a:rPr>
                <a:t>WYBÓ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7" name="Grupa 9"/>
          <p:cNvGrpSpPr/>
          <p:nvPr/>
        </p:nvGrpSpPr>
        <p:grpSpPr>
          <a:xfrm>
            <a:off x="5934240" y="2716200"/>
            <a:ext cx="2046240" cy="716040"/>
            <a:chOff x="5934240" y="2716200"/>
            <a:chExt cx="2046240" cy="716040"/>
          </a:xfrm>
        </p:grpSpPr>
        <p:sp>
          <p:nvSpPr>
            <p:cNvPr id="168" name="Objaśnienie ze strzałką w dół 10"/>
            <p:cNvSpPr/>
            <p:nvPr/>
          </p:nvSpPr>
          <p:spPr>
            <a:xfrm>
              <a:off x="5934240" y="2716200"/>
              <a:ext cx="2046240" cy="716040"/>
            </a:xfrm>
            <a:prstGeom prst="downArrowCallout">
              <a:avLst>
                <a:gd name="adj1" fmla="val 35725"/>
                <a:gd name="adj2" fmla="val 35721"/>
                <a:gd name="adj3" fmla="val 25000"/>
                <a:gd name="adj4" fmla="val 64977"/>
              </a:avLst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Objaśnienie ze strzałką w dół 6"/>
            <p:cNvSpPr/>
            <p:nvPr/>
          </p:nvSpPr>
          <p:spPr>
            <a:xfrm>
              <a:off x="5934240" y="2716200"/>
              <a:ext cx="2046240" cy="465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320" rIns="13320" tIns="13320" bIns="1332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Calibri"/>
                </a:rPr>
                <a:t>ROZLICZENI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3640" y="213840"/>
            <a:ext cx="8189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53735"/>
                </a:solidFill>
                <a:latin typeface="Calibri"/>
              </a:rPr>
              <a:t>Proces likwidacji szkó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250560" y="836280"/>
            <a:ext cx="87152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953735"/>
                </a:solidFill>
                <a:latin typeface="Calibri"/>
                <a:ea typeface="Verdana"/>
              </a:rPr>
              <a:t>Najczęstsze przyczyny odmów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99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  <a:ea typeface="Verdana"/>
              </a:rPr>
              <a:t>wypadek ubezpieczeniowy pozostaje poza okresem ubezpieczenia,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  <a:ea typeface="Verdana"/>
              </a:rPr>
              <a:t>np. zakup polisy po wypadku w celu dochodzenia roszczeń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99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  <a:ea typeface="Verdana"/>
              </a:rPr>
              <a:t>dana dziedzina prawa pozostaje poza zakresem ubezpieczenia,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  <a:ea typeface="Verdana"/>
              </a:rPr>
              <a:t>np. prawo rodzinn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Obraz 3" descr=""/>
          <p:cNvPicPr/>
          <p:nvPr/>
        </p:nvPicPr>
        <p:blipFill>
          <a:blip r:embed="rId1"/>
          <a:stretch/>
        </p:blipFill>
        <p:spPr>
          <a:xfrm>
            <a:off x="2987640" y="4076640"/>
            <a:ext cx="326232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Diagram 12" descr=""/>
          <p:cNvPicPr/>
          <p:nvPr/>
        </p:nvPicPr>
        <p:blipFill>
          <a:blip r:embed="rId1"/>
          <a:stretch/>
        </p:blipFill>
        <p:spPr>
          <a:xfrm>
            <a:off x="262080" y="1987560"/>
            <a:ext cx="8832600" cy="51325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4920" y="863640"/>
            <a:ext cx="624348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953735"/>
                </a:solidFill>
                <a:latin typeface="Calibri"/>
                <a:ea typeface="Verdana"/>
              </a:rPr>
              <a:t>Jak to wygląda w praktyc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5" name="Grupa 14"/>
          <p:cNvGrpSpPr/>
          <p:nvPr/>
        </p:nvGrpSpPr>
        <p:grpSpPr>
          <a:xfrm>
            <a:off x="3708360" y="2852640"/>
            <a:ext cx="1916280" cy="1420920"/>
            <a:chOff x="3708360" y="2852640"/>
            <a:chExt cx="1916280" cy="1420920"/>
          </a:xfrm>
        </p:grpSpPr>
        <p:grpSp>
          <p:nvGrpSpPr>
            <p:cNvPr id="176" name="Prostokąt zaokrąglony 24"/>
            <p:cNvGrpSpPr/>
            <p:nvPr/>
          </p:nvGrpSpPr>
          <p:grpSpPr>
            <a:xfrm>
              <a:off x="3708360" y="2852640"/>
              <a:ext cx="1916280" cy="1420920"/>
              <a:chOff x="3708360" y="2852640"/>
              <a:chExt cx="1916280" cy="1420920"/>
            </a:xfrm>
          </p:grpSpPr>
          <p:pic>
            <p:nvPicPr>
              <p:cNvPr id="177" name="Prostokąt zaokrąglony 24" descr=""/>
              <p:cNvPicPr/>
              <p:nvPr/>
            </p:nvPicPr>
            <p:blipFill>
              <a:blip r:embed="rId2"/>
              <a:stretch/>
            </p:blipFill>
            <p:spPr>
              <a:xfrm>
                <a:off x="3708360" y="2852640"/>
                <a:ext cx="1916280" cy="142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8" name=""/>
              <p:cNvSpPr/>
              <p:nvPr/>
            </p:nvSpPr>
            <p:spPr>
              <a:xfrm>
                <a:off x="3751920" y="2894040"/>
                <a:ext cx="1829160" cy="133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9" name="Prostokąt 25"/>
            <p:cNvSpPr/>
            <p:nvPr/>
          </p:nvSpPr>
          <p:spPr>
            <a:xfrm>
              <a:off x="3756240" y="2893680"/>
              <a:ext cx="1820520" cy="13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240" rIns="57240" tIns="57240" bIns="57240" anchor="ctr">
              <a:noAutofit/>
            </a:bodyPr>
            <a:p>
              <a:pPr algn="ctr">
                <a:lnSpc>
                  <a:spcPts val="1500"/>
                </a:lnSpc>
                <a:spcAft>
                  <a:spcPts val="649"/>
                </a:spcAft>
                <a:tabLst>
                  <a:tab algn="l" pos="0"/>
                  <a:tab algn="l" pos="666720"/>
                  <a:tab algn="l" pos="1333440"/>
                  <a:tab algn="l" pos="2000160"/>
                  <a:tab algn="l" pos="2666880"/>
                  <a:tab algn="l" pos="3333600"/>
                  <a:tab algn="l" pos="4000680"/>
                  <a:tab algn="l" pos="4667400"/>
                  <a:tab algn="l" pos="5334120"/>
                  <a:tab algn="l" pos="6000840"/>
                  <a:tab algn="l" pos="6667560"/>
                  <a:tab algn="l" pos="7334280"/>
                  <a:tab algn="l" pos="8001000"/>
                  <a:tab algn="l" pos="8667720"/>
                  <a:tab algn="l" pos="9334440"/>
                  <a:tab algn="l" pos="1000116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0" name="Objaśnienie prostokątne zaokrąglone 54"/>
          <p:cNvSpPr/>
          <p:nvPr/>
        </p:nvSpPr>
        <p:spPr>
          <a:xfrm>
            <a:off x="5734080" y="1990800"/>
            <a:ext cx="2951280" cy="1150920"/>
          </a:xfrm>
          <a:prstGeom prst="wedgeRoundRectCallout">
            <a:avLst>
              <a:gd name="adj1" fmla="val -55125"/>
              <a:gd name="adj2" fmla="val 80782"/>
              <a:gd name="adj3" fmla="val 16667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95959"/>
                </a:solidFill>
                <a:latin typeface="Calibri"/>
              </a:rPr>
              <a:t>Nowakowie kupili panele do wymarzonego mieszkania, zobacz jakie perypetie ich spotkały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Diagram 2" descr=""/>
          <p:cNvPicPr/>
          <p:nvPr/>
        </p:nvPicPr>
        <p:blipFill>
          <a:blip r:embed="rId3"/>
          <a:stretch/>
        </p:blipFill>
        <p:spPr>
          <a:xfrm>
            <a:off x="457200" y="6095880"/>
            <a:ext cx="7510320" cy="7193160"/>
          </a:xfrm>
          <a:prstGeom prst="rect">
            <a:avLst/>
          </a:prstGeom>
          <a:ln w="0">
            <a:noFill/>
          </a:ln>
        </p:spPr>
      </p:pic>
      <p:sp>
        <p:nvSpPr>
          <p:cNvPr id="182" name="Tytuł 1"/>
          <p:cNvSpPr/>
          <p:nvPr/>
        </p:nvSpPr>
        <p:spPr>
          <a:xfrm>
            <a:off x="324000" y="214200"/>
            <a:ext cx="8189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53735"/>
                </a:solidFill>
                <a:latin typeface="Calibri"/>
                <a:ea typeface="Arial"/>
              </a:rPr>
              <a:t>Proces likwidacji szkó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6" descr="C:\Users\ajacznik\AppData\Local\Microsoft\Windows\Temporary Internet Files\Content.IE5\S6N44BMW\_30books[1].jpg"/>
          <p:cNvPicPr/>
          <p:nvPr/>
        </p:nvPicPr>
        <p:blipFill>
          <a:blip r:embed="rId1"/>
          <a:stretch/>
        </p:blipFill>
        <p:spPr>
          <a:xfrm>
            <a:off x="3584520" y="5651640"/>
            <a:ext cx="1359000" cy="2199960"/>
          </a:xfrm>
          <a:prstGeom prst="rect">
            <a:avLst/>
          </a:prstGeom>
          <a:ln w="0">
            <a:noFill/>
          </a:ln>
        </p:spPr>
      </p:pic>
      <p:grpSp>
        <p:nvGrpSpPr>
          <p:cNvPr id="184" name="Grupa 117"/>
          <p:cNvGrpSpPr/>
          <p:nvPr/>
        </p:nvGrpSpPr>
        <p:grpSpPr>
          <a:xfrm>
            <a:off x="5481720" y="5621400"/>
            <a:ext cx="1328760" cy="1085760"/>
            <a:chOff x="5481720" y="5621400"/>
            <a:chExt cx="1328760" cy="1085760"/>
          </a:xfrm>
        </p:grpSpPr>
        <p:grpSp>
          <p:nvGrpSpPr>
            <p:cNvPr id="185" name="Prostokąt zaokrąglony 118"/>
            <p:cNvGrpSpPr/>
            <p:nvPr/>
          </p:nvGrpSpPr>
          <p:grpSpPr>
            <a:xfrm>
              <a:off x="5481720" y="5621400"/>
              <a:ext cx="1328760" cy="1085760"/>
              <a:chOff x="5481720" y="5621400"/>
              <a:chExt cx="1328760" cy="1085760"/>
            </a:xfrm>
          </p:grpSpPr>
          <p:pic>
            <p:nvPicPr>
              <p:cNvPr id="186" name="Prostokąt zaokrąglony 118" descr=""/>
              <p:cNvPicPr/>
              <p:nvPr/>
            </p:nvPicPr>
            <p:blipFill>
              <a:blip r:embed="rId2"/>
              <a:stretch/>
            </p:blipFill>
            <p:spPr>
              <a:xfrm>
                <a:off x="5481720" y="5621400"/>
                <a:ext cx="1328760" cy="108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>
                <a:off x="5514840" y="5653800"/>
                <a:ext cx="1265040" cy="102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8" name="Prostokąt 119"/>
            <p:cNvSpPr/>
            <p:nvPr/>
          </p:nvSpPr>
          <p:spPr>
            <a:xfrm>
              <a:off x="5514480" y="5653800"/>
              <a:ext cx="1265400" cy="102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240" rIns="57240" tIns="57240" bIns="57240" anchor="ctr">
              <a:noAutofit/>
            </a:bodyPr>
            <a:p>
              <a:pPr algn="ctr">
                <a:lnSpc>
                  <a:spcPts val="1298"/>
                </a:lnSpc>
                <a:spcAft>
                  <a:spcPts val="612"/>
                </a:spcAft>
                <a:tabLst>
                  <a:tab algn="l" pos="0"/>
                  <a:tab algn="l" pos="644400"/>
                  <a:tab algn="l" pos="128916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pl-PL" sz="1400" spc="-1" strike="noStrike">
                  <a:solidFill>
                    <a:srgbClr val="ffff00"/>
                  </a:solidFill>
                  <a:latin typeface="Arial Narrow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21920" y="825120"/>
            <a:ext cx="624204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pl-PL" sz="2000" spc="-1" strike="noStrike">
                <a:solidFill>
                  <a:srgbClr val="953735"/>
                </a:solidFill>
                <a:latin typeface="Calibri"/>
                <a:ea typeface="Verdana"/>
              </a:rPr>
              <a:t>Kiedy nie masz ubezpieczenia ochrony prawnej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0" name="Grupa 1"/>
          <p:cNvGrpSpPr/>
          <p:nvPr/>
        </p:nvGrpSpPr>
        <p:grpSpPr>
          <a:xfrm>
            <a:off x="55440" y="2060640"/>
            <a:ext cx="6900840" cy="1089000"/>
            <a:chOff x="55440" y="2060640"/>
            <a:chExt cx="6900840" cy="1089000"/>
          </a:xfrm>
        </p:grpSpPr>
        <p:grpSp>
          <p:nvGrpSpPr>
            <p:cNvPr id="191" name="Grupa 14"/>
            <p:cNvGrpSpPr/>
            <p:nvPr/>
          </p:nvGrpSpPr>
          <p:grpSpPr>
            <a:xfrm>
              <a:off x="55440" y="2060640"/>
              <a:ext cx="1329480" cy="1089000"/>
              <a:chOff x="55440" y="2060640"/>
              <a:chExt cx="1329480" cy="1089000"/>
            </a:xfrm>
          </p:grpSpPr>
          <p:grpSp>
            <p:nvGrpSpPr>
              <p:cNvPr id="192" name="Prostokąt zaokrąglony 24"/>
              <p:cNvGrpSpPr/>
              <p:nvPr/>
            </p:nvGrpSpPr>
            <p:grpSpPr>
              <a:xfrm>
                <a:off x="55440" y="2060640"/>
                <a:ext cx="1329480" cy="1089000"/>
                <a:chOff x="55440" y="2060640"/>
                <a:chExt cx="1329480" cy="1089000"/>
              </a:xfrm>
            </p:grpSpPr>
            <p:pic>
              <p:nvPicPr>
                <p:cNvPr id="193" name="Prostokąt zaokrąglony 2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5440" y="2060640"/>
                  <a:ext cx="1329480" cy="108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4" name=""/>
                <p:cNvSpPr/>
                <p:nvPr/>
              </p:nvSpPr>
              <p:spPr>
                <a:xfrm>
                  <a:off x="87840" y="2092320"/>
                  <a:ext cx="1266480" cy="102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95" name="Prostokąt 25"/>
              <p:cNvSpPr/>
              <p:nvPr/>
            </p:nvSpPr>
            <p:spPr>
              <a:xfrm>
                <a:off x="87840" y="2092320"/>
                <a:ext cx="1267560" cy="10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7240" rIns="57240" tIns="57240" bIns="57240" anchor="ctr">
                <a:noAutofit/>
              </a:bodyPr>
              <a:p>
                <a:pPr algn="ctr">
                  <a:lnSpc>
                    <a:spcPts val="1500"/>
                  </a:lnSpc>
                  <a:spcAft>
                    <a:spcPts val="649"/>
                  </a:spcAft>
                  <a:tabLst>
                    <a:tab algn="l" pos="0"/>
                    <a:tab algn="l" pos="666720"/>
                    <a:tab algn="l" pos="1333440"/>
                    <a:tab algn="l" pos="2000160"/>
                    <a:tab algn="l" pos="2666880"/>
                    <a:tab algn="l" pos="3333600"/>
                    <a:tab algn="l" pos="4000680"/>
                    <a:tab algn="l" pos="4667400"/>
                    <a:tab algn="l" pos="5334120"/>
                    <a:tab algn="l" pos="6000840"/>
                    <a:tab algn="l" pos="6667560"/>
                    <a:tab algn="l" pos="7334280"/>
                    <a:tab algn="l" pos="8001000"/>
                    <a:tab algn="l" pos="8667720"/>
                    <a:tab algn="l" pos="9334440"/>
                    <a:tab algn="l" pos="10001160"/>
                    <a:tab algn="l" pos="106678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6" name="Grupa 15"/>
            <p:cNvGrpSpPr/>
            <p:nvPr/>
          </p:nvGrpSpPr>
          <p:grpSpPr>
            <a:xfrm>
              <a:off x="1916640" y="2060640"/>
              <a:ext cx="1329480" cy="1089000"/>
              <a:chOff x="1916640" y="2060640"/>
              <a:chExt cx="1329480" cy="1089000"/>
            </a:xfrm>
          </p:grpSpPr>
          <p:grpSp>
            <p:nvGrpSpPr>
              <p:cNvPr id="197" name="Prostokąt zaokrąglony 22"/>
              <p:cNvGrpSpPr/>
              <p:nvPr/>
            </p:nvGrpSpPr>
            <p:grpSpPr>
              <a:xfrm>
                <a:off x="1916640" y="2060640"/>
                <a:ext cx="1329480" cy="1089000"/>
                <a:chOff x="1916640" y="2060640"/>
                <a:chExt cx="1329480" cy="1089000"/>
              </a:xfrm>
            </p:grpSpPr>
            <p:pic>
              <p:nvPicPr>
                <p:cNvPr id="198" name="Prostokąt zaokrąglony 2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916640" y="2060640"/>
                  <a:ext cx="1329480" cy="108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9" name=""/>
                <p:cNvSpPr/>
                <p:nvPr/>
              </p:nvSpPr>
              <p:spPr>
                <a:xfrm>
                  <a:off x="1951200" y="2092320"/>
                  <a:ext cx="1260720" cy="102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00" name="Prostokąt 23"/>
              <p:cNvSpPr/>
              <p:nvPr/>
            </p:nvSpPr>
            <p:spPr>
              <a:xfrm>
                <a:off x="1951560" y="2092320"/>
                <a:ext cx="1260000" cy="10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7240" rIns="57240" tIns="57240" bIns="57240" anchor="ctr">
                <a:noAutofit/>
              </a:bodyPr>
              <a:p>
                <a:pPr algn="ctr">
                  <a:lnSpc>
                    <a:spcPts val="1500"/>
                  </a:lnSpc>
                  <a:spcAft>
                    <a:spcPts val="649"/>
                  </a:spcAft>
                  <a:tabLst>
                    <a:tab algn="l" pos="0"/>
                    <a:tab algn="l" pos="666720"/>
                    <a:tab algn="l" pos="1333440"/>
                    <a:tab algn="l" pos="2000160"/>
                    <a:tab algn="l" pos="2666880"/>
                    <a:tab algn="l" pos="3333600"/>
                    <a:tab algn="l" pos="4000680"/>
                    <a:tab algn="l" pos="4667400"/>
                    <a:tab algn="l" pos="5334120"/>
                    <a:tab algn="l" pos="6000840"/>
                    <a:tab algn="l" pos="6667560"/>
                    <a:tab algn="l" pos="7334280"/>
                    <a:tab algn="l" pos="8001000"/>
                    <a:tab algn="l" pos="8667720"/>
                    <a:tab algn="l" pos="9334440"/>
                    <a:tab algn="l" pos="10001160"/>
                    <a:tab algn="l" pos="106678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01" name="Grupa 16"/>
            <p:cNvGrpSpPr/>
            <p:nvPr/>
          </p:nvGrpSpPr>
          <p:grpSpPr>
            <a:xfrm>
              <a:off x="3778200" y="2060640"/>
              <a:ext cx="1329480" cy="1089000"/>
              <a:chOff x="3778200" y="2060640"/>
              <a:chExt cx="1329480" cy="1089000"/>
            </a:xfrm>
          </p:grpSpPr>
          <p:grpSp>
            <p:nvGrpSpPr>
              <p:cNvPr id="202" name="Prostokąt zaokrąglony 20"/>
              <p:cNvGrpSpPr/>
              <p:nvPr/>
            </p:nvGrpSpPr>
            <p:grpSpPr>
              <a:xfrm>
                <a:off x="3778200" y="2060640"/>
                <a:ext cx="1329480" cy="1089000"/>
                <a:chOff x="3778200" y="2060640"/>
                <a:chExt cx="1329480" cy="1089000"/>
              </a:xfrm>
            </p:grpSpPr>
            <p:pic>
              <p:nvPicPr>
                <p:cNvPr id="203" name="Prostokąt zaokrąglony 2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778200" y="2060640"/>
                  <a:ext cx="1329480" cy="108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4" name=""/>
                <p:cNvSpPr/>
                <p:nvPr/>
              </p:nvSpPr>
              <p:spPr>
                <a:xfrm>
                  <a:off x="3808800" y="2092320"/>
                  <a:ext cx="1266480" cy="102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05" name="Prostokąt 21"/>
              <p:cNvSpPr/>
              <p:nvPr/>
            </p:nvSpPr>
            <p:spPr>
              <a:xfrm>
                <a:off x="3808440" y="2092320"/>
                <a:ext cx="1267560" cy="10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7240" rIns="57240" tIns="57240" bIns="57240" anchor="ctr">
                <a:noAutofit/>
              </a:bodyPr>
              <a:p>
                <a:pPr algn="ctr">
                  <a:lnSpc>
                    <a:spcPts val="1500"/>
                  </a:lnSpc>
                  <a:spcAft>
                    <a:spcPts val="649"/>
                  </a:spcAft>
                  <a:tabLst>
                    <a:tab algn="l" pos="0"/>
                    <a:tab algn="l" pos="666720"/>
                    <a:tab algn="l" pos="1333440"/>
                    <a:tab algn="l" pos="2000160"/>
                    <a:tab algn="l" pos="2666880"/>
                    <a:tab algn="l" pos="3333600"/>
                    <a:tab algn="l" pos="4000680"/>
                    <a:tab algn="l" pos="4667400"/>
                    <a:tab algn="l" pos="5334120"/>
                    <a:tab algn="l" pos="6000840"/>
                    <a:tab algn="l" pos="6667560"/>
                    <a:tab algn="l" pos="7334280"/>
                    <a:tab algn="l" pos="8001000"/>
                    <a:tab algn="l" pos="8667720"/>
                    <a:tab algn="l" pos="9334440"/>
                    <a:tab algn="l" pos="10001160"/>
                    <a:tab algn="l" pos="10667880"/>
                  </a:tabLst>
                </a:pPr>
                <a:r>
                  <a:rPr b="0" lang="pl-PL" sz="1500" spc="-1" strike="noStrike">
                    <a:solidFill>
                      <a:srgbClr val="ffffff"/>
                    </a:solidFill>
                    <a:latin typeface="Arial Narrow"/>
                  </a:rPr>
                  <a:t>.</a:t>
                </a:r>
                <a:endParaRPr b="0" lang="en-US" sz="1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06" name="Grupa 17"/>
            <p:cNvGrpSpPr/>
            <p:nvPr/>
          </p:nvGrpSpPr>
          <p:grpSpPr>
            <a:xfrm>
              <a:off x="5626800" y="2060640"/>
              <a:ext cx="1329480" cy="1089000"/>
              <a:chOff x="5626800" y="2060640"/>
              <a:chExt cx="1329480" cy="1089000"/>
            </a:xfrm>
          </p:grpSpPr>
          <p:grpSp>
            <p:nvGrpSpPr>
              <p:cNvPr id="207" name="Prostokąt zaokrąglony 18"/>
              <p:cNvGrpSpPr/>
              <p:nvPr/>
            </p:nvGrpSpPr>
            <p:grpSpPr>
              <a:xfrm>
                <a:off x="5626800" y="2060640"/>
                <a:ext cx="1329480" cy="1089000"/>
                <a:chOff x="5626800" y="2060640"/>
                <a:chExt cx="1329480" cy="1089000"/>
              </a:xfrm>
            </p:grpSpPr>
            <p:pic>
              <p:nvPicPr>
                <p:cNvPr id="208" name="Prostokąt zaokrąglony 18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5626800" y="2060640"/>
                  <a:ext cx="1329480" cy="108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9" name=""/>
                <p:cNvSpPr/>
                <p:nvPr/>
              </p:nvSpPr>
              <p:spPr>
                <a:xfrm>
                  <a:off x="5658840" y="2092320"/>
                  <a:ext cx="1266480" cy="102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10" name="Prostokąt 19"/>
              <p:cNvSpPr/>
              <p:nvPr/>
            </p:nvSpPr>
            <p:spPr>
              <a:xfrm>
                <a:off x="5657760" y="2092320"/>
                <a:ext cx="1267560" cy="10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7240" rIns="57240" tIns="57240" bIns="57240" anchor="ctr">
                <a:noAutofit/>
              </a:bodyPr>
              <a:p>
                <a:pPr algn="ctr">
                  <a:lnSpc>
                    <a:spcPts val="1500"/>
                  </a:lnSpc>
                  <a:spcAft>
                    <a:spcPts val="649"/>
                  </a:spcAft>
                  <a:tabLst>
                    <a:tab algn="l" pos="0"/>
                    <a:tab algn="l" pos="666720"/>
                    <a:tab algn="l" pos="1333440"/>
                    <a:tab algn="l" pos="2000160"/>
                    <a:tab algn="l" pos="2666880"/>
                    <a:tab algn="l" pos="3333600"/>
                    <a:tab algn="l" pos="4000680"/>
                    <a:tab algn="l" pos="4667400"/>
                    <a:tab algn="l" pos="5334120"/>
                    <a:tab algn="l" pos="6000840"/>
                    <a:tab algn="l" pos="6667560"/>
                    <a:tab algn="l" pos="7334280"/>
                    <a:tab algn="l" pos="8001000"/>
                    <a:tab algn="l" pos="8667720"/>
                    <a:tab algn="l" pos="9334440"/>
                    <a:tab algn="l" pos="10001160"/>
                    <a:tab algn="l" pos="10667880"/>
                  </a:tabLst>
                </a:pPr>
                <a:r>
                  <a:rPr b="0" lang="pl-PL" sz="15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1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211" name="Grupa 4" descr=""/>
          <p:cNvPicPr/>
          <p:nvPr/>
        </p:nvPicPr>
        <p:blipFill>
          <a:blip r:embed="rId7"/>
          <a:stretch/>
        </p:blipFill>
        <p:spPr>
          <a:xfrm>
            <a:off x="225360" y="2828880"/>
            <a:ext cx="8796240" cy="1109880"/>
          </a:xfrm>
          <a:prstGeom prst="rect">
            <a:avLst/>
          </a:prstGeom>
          <a:ln w="0">
            <a:noFill/>
          </a:ln>
        </p:spPr>
      </p:pic>
      <p:grpSp>
        <p:nvGrpSpPr>
          <p:cNvPr id="212" name="Grupa 55"/>
          <p:cNvGrpSpPr/>
          <p:nvPr/>
        </p:nvGrpSpPr>
        <p:grpSpPr>
          <a:xfrm>
            <a:off x="7326360" y="5621400"/>
            <a:ext cx="1328760" cy="1085760"/>
            <a:chOff x="7326360" y="5621400"/>
            <a:chExt cx="1328760" cy="1085760"/>
          </a:xfrm>
        </p:grpSpPr>
        <p:grpSp>
          <p:nvGrpSpPr>
            <p:cNvPr id="213" name="Prostokąt zaokrąglony 57"/>
            <p:cNvGrpSpPr/>
            <p:nvPr/>
          </p:nvGrpSpPr>
          <p:grpSpPr>
            <a:xfrm>
              <a:off x="7326360" y="5621400"/>
              <a:ext cx="1328760" cy="1085760"/>
              <a:chOff x="7326360" y="5621400"/>
              <a:chExt cx="1328760" cy="1085760"/>
            </a:xfrm>
          </p:grpSpPr>
          <p:pic>
            <p:nvPicPr>
              <p:cNvPr id="214" name="Prostokąt zaokrąglony 57" descr=""/>
              <p:cNvPicPr/>
              <p:nvPr/>
            </p:nvPicPr>
            <p:blipFill>
              <a:blip r:embed="rId8"/>
              <a:stretch/>
            </p:blipFill>
            <p:spPr>
              <a:xfrm>
                <a:off x="7326360" y="5621400"/>
                <a:ext cx="1328760" cy="108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7356960" y="5653800"/>
                <a:ext cx="1265040" cy="102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6" name="Prostokąt 58"/>
            <p:cNvSpPr/>
            <p:nvPr/>
          </p:nvSpPr>
          <p:spPr>
            <a:xfrm>
              <a:off x="7356960" y="5653800"/>
              <a:ext cx="1265400" cy="102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240" rIns="57240" tIns="57240" bIns="57240" anchor="ctr">
              <a:noAutofit/>
            </a:bodyPr>
            <a:p>
              <a:pPr algn="ctr">
                <a:lnSpc>
                  <a:spcPts val="1298"/>
                </a:lnSpc>
                <a:spcAft>
                  <a:spcPts val="612"/>
                </a:spcAft>
                <a:tabLst>
                  <a:tab algn="l" pos="0"/>
                  <a:tab algn="l" pos="644400"/>
                  <a:tab algn="l" pos="128916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pl-PL" sz="1400" spc="-1" strike="noStrike">
                  <a:solidFill>
                    <a:srgbClr val="ffff00"/>
                  </a:solidFill>
                  <a:latin typeface="Arial Narrow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17" name="Picture 5" descr="C:\Users\ajacznik\AppData\Local\Microsoft\Windows\Temporary Internet Files\Content.IE5\12KLNY6X\google-76522_640[1].png"/>
          <p:cNvPicPr/>
          <p:nvPr/>
        </p:nvPicPr>
        <p:blipFill>
          <a:blip r:embed="rId9"/>
          <a:stretch/>
        </p:blipFill>
        <p:spPr>
          <a:xfrm>
            <a:off x="5486400" y="5619600"/>
            <a:ext cx="1316160" cy="1086120"/>
          </a:xfrm>
          <a:prstGeom prst="rect">
            <a:avLst/>
          </a:prstGeom>
          <a:ln w="0">
            <a:noFill/>
          </a:ln>
        </p:spPr>
      </p:pic>
      <p:grpSp>
        <p:nvGrpSpPr>
          <p:cNvPr id="218" name="Grupa 60"/>
          <p:cNvGrpSpPr/>
          <p:nvPr/>
        </p:nvGrpSpPr>
        <p:grpSpPr>
          <a:xfrm>
            <a:off x="55440" y="2682720"/>
            <a:ext cx="8987040" cy="3135600"/>
            <a:chOff x="55440" y="2682720"/>
            <a:chExt cx="8987040" cy="3135600"/>
          </a:xfrm>
        </p:grpSpPr>
        <p:grpSp>
          <p:nvGrpSpPr>
            <p:cNvPr id="219" name="Grupa 61"/>
            <p:cNvGrpSpPr/>
            <p:nvPr/>
          </p:nvGrpSpPr>
          <p:grpSpPr>
            <a:xfrm>
              <a:off x="55440" y="2682720"/>
              <a:ext cx="8695080" cy="1024560"/>
              <a:chOff x="55440" y="2682720"/>
              <a:chExt cx="8695080" cy="1024560"/>
            </a:xfrm>
          </p:grpSpPr>
          <p:sp>
            <p:nvSpPr>
              <p:cNvPr id="220" name="Prostokąt 116"/>
              <p:cNvSpPr/>
              <p:nvPr/>
            </p:nvSpPr>
            <p:spPr>
              <a:xfrm>
                <a:off x="55440" y="2682720"/>
                <a:ext cx="1265040" cy="102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7240" rIns="57240" tIns="57240" bIns="57240" anchor="ctr">
                <a:noAutofit/>
              </a:bodyPr>
              <a:p>
                <a:pPr algn="ctr">
                  <a:lnSpc>
                    <a:spcPts val="1500"/>
                  </a:lnSpc>
                  <a:spcAft>
                    <a:spcPts val="649"/>
                  </a:spcAft>
                  <a:tabLst>
                    <a:tab algn="l" pos="0"/>
                    <a:tab algn="l" pos="666720"/>
                    <a:tab algn="l" pos="1333440"/>
                    <a:tab algn="l" pos="2000160"/>
                    <a:tab algn="l" pos="2666880"/>
                    <a:tab algn="l" pos="3333600"/>
                    <a:tab algn="l" pos="4000680"/>
                    <a:tab algn="l" pos="4667400"/>
                    <a:tab algn="l" pos="5334120"/>
                    <a:tab algn="l" pos="6000840"/>
                    <a:tab algn="l" pos="6667560"/>
                    <a:tab algn="l" pos="7334280"/>
                    <a:tab algn="l" pos="8001000"/>
                    <a:tab algn="l" pos="8667720"/>
                    <a:tab algn="l" pos="9334440"/>
                    <a:tab algn="l" pos="10001160"/>
                    <a:tab algn="l" pos="106678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Prostokąt 111"/>
              <p:cNvSpPr/>
              <p:nvPr/>
            </p:nvSpPr>
            <p:spPr>
              <a:xfrm>
                <a:off x="1917720" y="2682720"/>
                <a:ext cx="1265040" cy="102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7240" rIns="57240" tIns="57240" bIns="57240" anchor="ctr">
                <a:noAutofit/>
              </a:bodyPr>
              <a:p>
                <a:pPr algn="ctr">
                  <a:lnSpc>
                    <a:spcPts val="1500"/>
                  </a:lnSpc>
                  <a:spcAft>
                    <a:spcPts val="649"/>
                  </a:spcAft>
                  <a:tabLst>
                    <a:tab algn="l" pos="0"/>
                    <a:tab algn="l" pos="666720"/>
                    <a:tab algn="l" pos="1333440"/>
                    <a:tab algn="l" pos="2000160"/>
                    <a:tab algn="l" pos="2666880"/>
                    <a:tab algn="l" pos="3333600"/>
                    <a:tab algn="l" pos="4000680"/>
                    <a:tab algn="l" pos="4667400"/>
                    <a:tab algn="l" pos="5334120"/>
                    <a:tab algn="l" pos="6000840"/>
                    <a:tab algn="l" pos="6667560"/>
                    <a:tab algn="l" pos="7334280"/>
                    <a:tab algn="l" pos="8001000"/>
                    <a:tab algn="l" pos="8667720"/>
                    <a:tab algn="l" pos="9334440"/>
                    <a:tab algn="l" pos="10001160"/>
                    <a:tab algn="l" pos="10667880"/>
                  </a:tabLst>
                </a:pPr>
                <a:r>
                  <a:rPr b="0" lang="pl-PL" sz="1500" spc="-1" strike="noStrike">
                    <a:solidFill>
                      <a:srgbClr val="ffffff"/>
                    </a:solidFill>
                    <a:latin typeface="Arial Narrow"/>
                  </a:rPr>
                  <a:t>.</a:t>
                </a:r>
                <a:endParaRPr b="0" lang="en-US" sz="1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" name="Prostokąt 112"/>
              <p:cNvSpPr/>
              <p:nvPr/>
            </p:nvSpPr>
            <p:spPr>
              <a:xfrm>
                <a:off x="3778200" y="2682720"/>
                <a:ext cx="1265040" cy="102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7240" rIns="57240" tIns="57240" bIns="57240" anchor="ctr">
                <a:noAutofit/>
              </a:bodyPr>
              <a:p>
                <a:pPr algn="ctr">
                  <a:lnSpc>
                    <a:spcPts val="1298"/>
                  </a:lnSpc>
                  <a:spcAft>
                    <a:spcPts val="612"/>
                  </a:spcAft>
                  <a:tabLst>
                    <a:tab algn="l" pos="0"/>
                    <a:tab algn="l" pos="666720"/>
                    <a:tab algn="l" pos="1333440"/>
                    <a:tab algn="l" pos="2000160"/>
                    <a:tab algn="l" pos="2666880"/>
                    <a:tab algn="l" pos="3333600"/>
                    <a:tab algn="l" pos="4000680"/>
                    <a:tab algn="l" pos="4667400"/>
                    <a:tab algn="l" pos="5334120"/>
                    <a:tab algn="l" pos="6000840"/>
                    <a:tab algn="l" pos="6667560"/>
                    <a:tab algn="l" pos="7334280"/>
                    <a:tab algn="l" pos="8001000"/>
                    <a:tab algn="l" pos="8667720"/>
                    <a:tab algn="l" pos="9334440"/>
                    <a:tab algn="l" pos="10001160"/>
                    <a:tab algn="l" pos="106678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" name="Prostokąt 113"/>
              <p:cNvSpPr/>
              <p:nvPr/>
            </p:nvSpPr>
            <p:spPr>
              <a:xfrm>
                <a:off x="5623200" y="2682720"/>
                <a:ext cx="1265040" cy="102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7240" rIns="57240" tIns="57240" bIns="572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649"/>
                  </a:spcAft>
                  <a:tabLst>
                    <a:tab algn="l" pos="0"/>
                    <a:tab algn="l" pos="666720"/>
                    <a:tab algn="l" pos="1333440"/>
                    <a:tab algn="l" pos="2000160"/>
                    <a:tab algn="l" pos="2666880"/>
                    <a:tab algn="l" pos="3333600"/>
                    <a:tab algn="l" pos="4000680"/>
                    <a:tab algn="l" pos="4667400"/>
                    <a:tab algn="l" pos="5334120"/>
                    <a:tab algn="l" pos="6000840"/>
                    <a:tab algn="l" pos="6667560"/>
                    <a:tab algn="l" pos="7334280"/>
                    <a:tab algn="l" pos="8001000"/>
                    <a:tab algn="l" pos="8667720"/>
                    <a:tab algn="l" pos="9334440"/>
                    <a:tab algn="l" pos="10001160"/>
                    <a:tab algn="l" pos="10667880"/>
                  </a:tabLst>
                </a:pPr>
                <a:r>
                  <a:rPr b="0" lang="pl-PL" sz="15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1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" name="Prostokąt 114"/>
              <p:cNvSpPr/>
              <p:nvPr/>
            </p:nvSpPr>
            <p:spPr>
              <a:xfrm>
                <a:off x="7485480" y="2682720"/>
                <a:ext cx="1265040" cy="102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7240" rIns="57240" tIns="57240" bIns="57240" anchor="ctr">
                <a:noAutofit/>
              </a:bodyPr>
              <a:p>
                <a:pPr algn="ctr">
                  <a:lnSpc>
                    <a:spcPts val="1500"/>
                  </a:lnSpc>
                  <a:spcAft>
                    <a:spcPts val="649"/>
                  </a:spcAft>
                  <a:tabLst>
                    <a:tab algn="l" pos="0"/>
                    <a:tab algn="l" pos="666720"/>
                    <a:tab algn="l" pos="1333440"/>
                    <a:tab algn="l" pos="2000160"/>
                    <a:tab algn="l" pos="2666880"/>
                    <a:tab algn="l" pos="3333600"/>
                    <a:tab algn="l" pos="4000680"/>
                    <a:tab algn="l" pos="4667400"/>
                    <a:tab algn="l" pos="5334120"/>
                    <a:tab algn="l" pos="6000840"/>
                    <a:tab algn="l" pos="6667560"/>
                    <a:tab algn="l" pos="7334280"/>
                    <a:tab algn="l" pos="8001000"/>
                    <a:tab algn="l" pos="8667720"/>
                    <a:tab algn="l" pos="9334440"/>
                    <a:tab algn="l" pos="10001160"/>
                    <a:tab algn="l" pos="106678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5" name="Strzałka w prawo 10"/>
            <p:cNvSpPr/>
            <p:nvPr/>
          </p:nvSpPr>
          <p:spPr>
            <a:xfrm>
              <a:off x="3475080" y="3786120"/>
              <a:ext cx="196560" cy="19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Strzałka w prawo 16"/>
            <p:cNvSpPr/>
            <p:nvPr/>
          </p:nvSpPr>
          <p:spPr>
            <a:xfrm>
              <a:off x="7197840" y="3786120"/>
              <a:ext cx="196560" cy="19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7" name="Grupa 69"/>
            <p:cNvGrpSpPr/>
            <p:nvPr/>
          </p:nvGrpSpPr>
          <p:grpSpPr>
            <a:xfrm>
              <a:off x="3684240" y="4253040"/>
              <a:ext cx="5358240" cy="1565280"/>
              <a:chOff x="3684240" y="4253040"/>
              <a:chExt cx="5358240" cy="1565280"/>
            </a:xfrm>
          </p:grpSpPr>
          <p:grpSp>
            <p:nvGrpSpPr>
              <p:cNvPr id="228" name="Grupa 71"/>
              <p:cNvGrpSpPr/>
              <p:nvPr/>
            </p:nvGrpSpPr>
            <p:grpSpPr>
              <a:xfrm>
                <a:off x="8214120" y="4253040"/>
                <a:ext cx="329040" cy="387000"/>
                <a:chOff x="8214120" y="4253040"/>
                <a:chExt cx="329040" cy="387000"/>
              </a:xfrm>
            </p:grpSpPr>
            <p:sp>
              <p:nvSpPr>
                <p:cNvPr id="229" name="Strzałka w prawo 94"/>
                <p:cNvSpPr/>
                <p:nvPr/>
              </p:nvSpPr>
              <p:spPr>
                <a:xfrm rot="5400000">
                  <a:off x="8235000" y="4232160"/>
                  <a:ext cx="287280" cy="329040"/>
                </a:xfrm>
                <a:prstGeom prst="rightArrow">
                  <a:avLst>
                    <a:gd name="adj1" fmla="val 60000"/>
                    <a:gd name="adj2" fmla="val 50000"/>
                  </a:avLst>
                </a:prstGeom>
                <a:solidFill>
                  <a:srgbClr val="e6b9b8"/>
                </a:solidFill>
                <a:ln w="0">
                  <a:noFill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0" name="Strzałka w prawo 6"/>
                <p:cNvSpPr/>
                <p:nvPr/>
              </p:nvSpPr>
              <p:spPr>
                <a:xfrm>
                  <a:off x="8280360" y="4438440"/>
                  <a:ext cx="196200" cy="20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476"/>
                    </a:spcAft>
                    <a:tabLst>
                      <a:tab algn="l" pos="0"/>
                      <a:tab algn="l" pos="488880"/>
                      <a:tab algn="l" pos="977760"/>
                      <a:tab algn="l" pos="1467000"/>
                      <a:tab algn="l" pos="1955880"/>
                      <a:tab algn="l" pos="2444760"/>
                      <a:tab algn="l" pos="2933640"/>
                      <a:tab algn="l" pos="3422520"/>
                      <a:tab algn="l" pos="3911760"/>
                      <a:tab algn="l" pos="4400640"/>
                      <a:tab algn="l" pos="4889520"/>
                      <a:tab algn="l" pos="5378400"/>
                      <a:tab algn="l" pos="5867280"/>
                      <a:tab algn="l" pos="6356520"/>
                      <a:tab algn="l" pos="6845400"/>
                      <a:tab algn="l" pos="7334280"/>
                      <a:tab algn="l" pos="7823160"/>
                      <a:tab algn="l" pos="8312040"/>
                      <a:tab algn="l" pos="8801280"/>
                      <a:tab algn="l" pos="9290160"/>
                      <a:tab algn="l" pos="97790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31" name="Grupa 72"/>
              <p:cNvGrpSpPr/>
              <p:nvPr/>
            </p:nvGrpSpPr>
            <p:grpSpPr>
              <a:xfrm>
                <a:off x="7715160" y="4731480"/>
                <a:ext cx="1327320" cy="1086840"/>
                <a:chOff x="7715160" y="4731480"/>
                <a:chExt cx="1327320" cy="1086840"/>
              </a:xfrm>
            </p:grpSpPr>
            <p:sp>
              <p:nvSpPr>
                <p:cNvPr id="232" name="Prostokąt zaokrąglony 92"/>
                <p:cNvSpPr/>
                <p:nvPr/>
              </p:nvSpPr>
              <p:spPr>
                <a:xfrm>
                  <a:off x="7715160" y="4731480"/>
                  <a:ext cx="1327320" cy="108684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e6b9b8"/>
                </a:solidFill>
                <a:ln w="38160">
                  <a:solidFill>
                    <a:srgbClr val="e6b9b8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3" name="Prostokąt 93"/>
                <p:cNvSpPr/>
                <p:nvPr/>
              </p:nvSpPr>
              <p:spPr>
                <a:xfrm>
                  <a:off x="7746840" y="4763160"/>
                  <a:ext cx="1263960" cy="102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7240" rIns="57240" tIns="57240" bIns="57240" anchor="ctr">
                  <a:noAutofit/>
                </a:bodyPr>
                <a:p>
                  <a:pPr algn="ctr">
                    <a:lnSpc>
                      <a:spcPts val="1298"/>
                    </a:lnSpc>
                    <a:spcAft>
                      <a:spcPts val="524"/>
                    </a:spcAft>
                    <a:tabLst>
                      <a:tab algn="l" pos="0"/>
                      <a:tab algn="l" pos="644400"/>
                      <a:tab algn="l" pos="1289160"/>
                      <a:tab algn="l" pos="1933560"/>
                      <a:tab algn="l" pos="2577960"/>
                      <a:tab algn="l" pos="3222720"/>
                      <a:tab algn="l" pos="3867120"/>
                      <a:tab algn="l" pos="4511520"/>
                      <a:tab algn="l" pos="5156280"/>
                      <a:tab algn="l" pos="5800680"/>
                      <a:tab algn="l" pos="6445080"/>
                      <a:tab algn="l" pos="7089840"/>
                      <a:tab algn="l" pos="7734240"/>
                      <a:tab algn="l" pos="8379000"/>
                      <a:tab algn="l" pos="9023400"/>
                      <a:tab algn="l" pos="9667800"/>
                      <a:tab algn="l" pos="10312560"/>
                      <a:tab algn="l" pos="10956960"/>
                    </a:tabLst>
                  </a:pPr>
                  <a:r>
                    <a:rPr b="0" lang="pl-PL" sz="1200" spc="-1" strike="noStrike">
                      <a:solidFill>
                        <a:srgbClr val="ffff00"/>
                      </a:solidFill>
                      <a:latin typeface="Calibri"/>
                    </a:rPr>
                    <a:t>KLIENT:</a:t>
                  </a: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lnSpc>
                      <a:spcPts val="1298"/>
                    </a:lnSpc>
                    <a:spcAft>
                      <a:spcPts val="524"/>
                    </a:spcAft>
                    <a:tabLst>
                      <a:tab algn="l" pos="0"/>
                      <a:tab algn="l" pos="644400"/>
                      <a:tab algn="l" pos="1289160"/>
                      <a:tab algn="l" pos="1933560"/>
                      <a:tab algn="l" pos="2577960"/>
                      <a:tab algn="l" pos="3222720"/>
                      <a:tab algn="l" pos="3867120"/>
                      <a:tab algn="l" pos="4511520"/>
                      <a:tab algn="l" pos="5156280"/>
                      <a:tab algn="l" pos="5800680"/>
                      <a:tab algn="l" pos="6445080"/>
                      <a:tab algn="l" pos="7089840"/>
                      <a:tab algn="l" pos="7734240"/>
                      <a:tab algn="l" pos="8379000"/>
                      <a:tab algn="l" pos="9023400"/>
                      <a:tab algn="l" pos="9667800"/>
                      <a:tab algn="l" pos="10312560"/>
                      <a:tab algn="l" pos="10956960"/>
                    </a:tabLst>
                  </a:pPr>
                  <a:r>
                    <a:rPr b="0" lang="pl-PL" sz="1200" spc="-1" strike="noStrike">
                      <a:solidFill>
                        <a:srgbClr val="ffffff"/>
                      </a:solidFill>
                      <a:latin typeface="Calibri"/>
                    </a:rPr>
                    <a:t>dzwoni do znajomych</a:t>
                  </a: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34" name="Grupa 73"/>
              <p:cNvGrpSpPr/>
              <p:nvPr/>
            </p:nvGrpSpPr>
            <p:grpSpPr>
              <a:xfrm>
                <a:off x="7316280" y="5109840"/>
                <a:ext cx="281520" cy="329400"/>
                <a:chOff x="7316280" y="5109840"/>
                <a:chExt cx="281520" cy="329400"/>
              </a:xfrm>
            </p:grpSpPr>
            <p:sp>
              <p:nvSpPr>
                <p:cNvPr id="235" name="Strzałka w prawo 90"/>
                <p:cNvSpPr/>
                <p:nvPr/>
              </p:nvSpPr>
              <p:spPr>
                <a:xfrm rot="10800000">
                  <a:off x="7316280" y="5109840"/>
                  <a:ext cx="281160" cy="329400"/>
                </a:xfrm>
                <a:prstGeom prst="rightArrow">
                  <a:avLst>
                    <a:gd name="adj1" fmla="val 60000"/>
                    <a:gd name="adj2" fmla="val 50000"/>
                  </a:avLst>
                </a:prstGeom>
                <a:solidFill>
                  <a:srgbClr val="e6b9b8"/>
                </a:solidFill>
                <a:ln w="0">
                  <a:noFill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6" name="Strzałka w prawo 10"/>
                <p:cNvSpPr/>
                <p:nvPr/>
              </p:nvSpPr>
              <p:spPr>
                <a:xfrm>
                  <a:off x="7400880" y="5175360"/>
                  <a:ext cx="19692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476"/>
                    </a:spcAft>
                    <a:tabLst>
                      <a:tab algn="l" pos="0"/>
                      <a:tab algn="l" pos="488880"/>
                      <a:tab algn="l" pos="977760"/>
                      <a:tab algn="l" pos="1467000"/>
                      <a:tab algn="l" pos="1955880"/>
                      <a:tab algn="l" pos="2444760"/>
                      <a:tab algn="l" pos="2933640"/>
                      <a:tab algn="l" pos="3422520"/>
                      <a:tab algn="l" pos="3911760"/>
                      <a:tab algn="l" pos="4400640"/>
                      <a:tab algn="l" pos="4889520"/>
                      <a:tab algn="l" pos="5378400"/>
                      <a:tab algn="l" pos="5867280"/>
                      <a:tab algn="l" pos="6356520"/>
                      <a:tab algn="l" pos="6845400"/>
                      <a:tab algn="l" pos="7334280"/>
                      <a:tab algn="l" pos="7823160"/>
                      <a:tab algn="l" pos="8312040"/>
                      <a:tab algn="l" pos="8801280"/>
                      <a:tab algn="l" pos="9290160"/>
                      <a:tab algn="l" pos="97790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37" name="Grupa 74"/>
              <p:cNvGrpSpPr/>
              <p:nvPr/>
            </p:nvGrpSpPr>
            <p:grpSpPr>
              <a:xfrm>
                <a:off x="5856480" y="4731480"/>
                <a:ext cx="1327320" cy="1086840"/>
                <a:chOff x="5856480" y="4731480"/>
                <a:chExt cx="1327320" cy="1086840"/>
              </a:xfrm>
            </p:grpSpPr>
            <p:sp>
              <p:nvSpPr>
                <p:cNvPr id="238" name="Prostokąt zaokrąglony 88"/>
                <p:cNvSpPr/>
                <p:nvPr/>
              </p:nvSpPr>
              <p:spPr>
                <a:xfrm>
                  <a:off x="5856480" y="4731480"/>
                  <a:ext cx="1327320" cy="108684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e6b9b8"/>
                </a:solidFill>
                <a:ln w="38160">
                  <a:solidFill>
                    <a:srgbClr val="ffffff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9" name="Prostokąt 89"/>
                <p:cNvSpPr/>
                <p:nvPr/>
              </p:nvSpPr>
              <p:spPr>
                <a:xfrm>
                  <a:off x="5919840" y="4794840"/>
                  <a:ext cx="1263960" cy="1023480"/>
                </a:xfrm>
                <a:prstGeom prst="rect">
                  <a:avLst/>
                </a:prstGeom>
                <a:solidFill>
                  <a:srgbClr val="e6b9b8"/>
                </a:solidFill>
                <a:ln w="9360">
                  <a:solidFill>
                    <a:srgbClr val="e6b9b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7240" rIns="57240" tIns="57240" bIns="57240" anchor="ctr">
                  <a:noAutofit/>
                </a:bodyPr>
                <a:p>
                  <a:pPr algn="ctr">
                    <a:lnSpc>
                      <a:spcPts val="1298"/>
                    </a:lnSpc>
                    <a:spcAft>
                      <a:spcPts val="524"/>
                    </a:spcAft>
                    <a:tabLst>
                      <a:tab algn="l" pos="0"/>
                      <a:tab algn="l" pos="644400"/>
                      <a:tab algn="l" pos="1289160"/>
                      <a:tab algn="l" pos="1933560"/>
                      <a:tab algn="l" pos="2577960"/>
                      <a:tab algn="l" pos="3222720"/>
                      <a:tab algn="l" pos="3867120"/>
                      <a:tab algn="l" pos="4511520"/>
                      <a:tab algn="l" pos="5156280"/>
                      <a:tab algn="l" pos="5800680"/>
                      <a:tab algn="l" pos="6445080"/>
                      <a:tab algn="l" pos="7089840"/>
                      <a:tab algn="l" pos="7734240"/>
                      <a:tab algn="l" pos="8379000"/>
                      <a:tab algn="l" pos="9023400"/>
                      <a:tab algn="l" pos="9667800"/>
                      <a:tab algn="l" pos="10312560"/>
                      <a:tab algn="l" pos="1095696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lnSpc>
                      <a:spcPts val="1298"/>
                    </a:lnSpc>
                    <a:spcAft>
                      <a:spcPts val="524"/>
                    </a:spcAft>
                    <a:tabLst>
                      <a:tab algn="l" pos="0"/>
                      <a:tab algn="l" pos="644400"/>
                      <a:tab algn="l" pos="1289160"/>
                      <a:tab algn="l" pos="1933560"/>
                      <a:tab algn="l" pos="2577960"/>
                      <a:tab algn="l" pos="3222720"/>
                      <a:tab algn="l" pos="3867120"/>
                      <a:tab algn="l" pos="4511520"/>
                      <a:tab algn="l" pos="5156280"/>
                      <a:tab algn="l" pos="5800680"/>
                      <a:tab algn="l" pos="6445080"/>
                      <a:tab algn="l" pos="7089840"/>
                      <a:tab algn="l" pos="7734240"/>
                      <a:tab algn="l" pos="8379000"/>
                      <a:tab algn="l" pos="9023400"/>
                      <a:tab algn="l" pos="9667800"/>
                      <a:tab algn="l" pos="10312560"/>
                      <a:tab algn="l" pos="10956960"/>
                    </a:tabLst>
                  </a:pPr>
                  <a:r>
                    <a:rPr b="0" lang="pl-PL" sz="1200" spc="-1" strike="noStrike">
                      <a:solidFill>
                        <a:srgbClr val="ffff00"/>
                      </a:solidFill>
                      <a:latin typeface="Calibri"/>
                    </a:rPr>
                    <a:t>KLIENT:</a:t>
                  </a: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lnSpc>
                      <a:spcPts val="1298"/>
                    </a:lnSpc>
                    <a:spcAft>
                      <a:spcPts val="524"/>
                    </a:spcAft>
                    <a:tabLst>
                      <a:tab algn="l" pos="0"/>
                      <a:tab algn="l" pos="644400"/>
                      <a:tab algn="l" pos="1289160"/>
                      <a:tab algn="l" pos="1933560"/>
                      <a:tab algn="l" pos="2577960"/>
                      <a:tab algn="l" pos="3222720"/>
                      <a:tab algn="l" pos="3867120"/>
                      <a:tab algn="l" pos="4511520"/>
                      <a:tab algn="l" pos="5156280"/>
                      <a:tab algn="l" pos="5800680"/>
                      <a:tab algn="l" pos="6445080"/>
                      <a:tab algn="l" pos="7089840"/>
                      <a:tab algn="l" pos="7734240"/>
                      <a:tab algn="l" pos="8379000"/>
                      <a:tab algn="l" pos="9023400"/>
                      <a:tab algn="l" pos="9667800"/>
                      <a:tab algn="l" pos="10312560"/>
                      <a:tab algn="l" pos="10956960"/>
                    </a:tabLst>
                  </a:pPr>
                  <a:r>
                    <a:rPr b="0" lang="pl-PL" sz="1200" spc="-1" strike="noStrike">
                      <a:solidFill>
                        <a:srgbClr val="ffffff"/>
                      </a:solidFill>
                      <a:latin typeface="Calibri"/>
                    </a:rPr>
                    <a:t>szuka porady w internecie</a:t>
                  </a: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lnSpc>
                      <a:spcPct val="90000"/>
                    </a:lnSpc>
                    <a:spcAft>
                      <a:spcPts val="524"/>
                    </a:spcAft>
                    <a:tabLst>
                      <a:tab algn="l" pos="0"/>
                      <a:tab algn="l" pos="644400"/>
                      <a:tab algn="l" pos="1289160"/>
                      <a:tab algn="l" pos="1933560"/>
                      <a:tab algn="l" pos="2577960"/>
                      <a:tab algn="l" pos="3222720"/>
                      <a:tab algn="l" pos="3867120"/>
                      <a:tab algn="l" pos="4511520"/>
                      <a:tab algn="l" pos="5156280"/>
                      <a:tab algn="l" pos="5800680"/>
                      <a:tab algn="l" pos="6445080"/>
                      <a:tab algn="l" pos="7089840"/>
                      <a:tab algn="l" pos="7734240"/>
                      <a:tab algn="l" pos="8379000"/>
                      <a:tab algn="l" pos="9023400"/>
                      <a:tab algn="l" pos="9667800"/>
                      <a:tab algn="l" pos="10312560"/>
                      <a:tab algn="l" pos="1095696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40" name="Grupa 75"/>
              <p:cNvGrpSpPr/>
              <p:nvPr/>
            </p:nvGrpSpPr>
            <p:grpSpPr>
              <a:xfrm>
                <a:off x="5457600" y="5109840"/>
                <a:ext cx="281520" cy="329400"/>
                <a:chOff x="5457600" y="5109840"/>
                <a:chExt cx="281520" cy="329400"/>
              </a:xfrm>
            </p:grpSpPr>
            <p:sp>
              <p:nvSpPr>
                <p:cNvPr id="241" name="Strzałka w prawo 86"/>
                <p:cNvSpPr/>
                <p:nvPr/>
              </p:nvSpPr>
              <p:spPr>
                <a:xfrm rot="10800000">
                  <a:off x="5457600" y="5109840"/>
                  <a:ext cx="281160" cy="329400"/>
                </a:xfrm>
                <a:prstGeom prst="rightArrow">
                  <a:avLst>
                    <a:gd name="adj1" fmla="val 60000"/>
                    <a:gd name="adj2" fmla="val 50000"/>
                  </a:avLst>
                </a:prstGeom>
                <a:solidFill>
                  <a:srgbClr val="e6b9b8"/>
                </a:solidFill>
                <a:ln w="0">
                  <a:noFill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2" name="Strzałka w prawo 14"/>
                <p:cNvSpPr/>
                <p:nvPr/>
              </p:nvSpPr>
              <p:spPr>
                <a:xfrm>
                  <a:off x="5541480" y="5175360"/>
                  <a:ext cx="19764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476"/>
                    </a:spcAft>
                    <a:tabLst>
                      <a:tab algn="l" pos="0"/>
                      <a:tab algn="l" pos="488880"/>
                      <a:tab algn="l" pos="977760"/>
                      <a:tab algn="l" pos="1467000"/>
                      <a:tab algn="l" pos="1955880"/>
                      <a:tab algn="l" pos="2444760"/>
                      <a:tab algn="l" pos="2933640"/>
                      <a:tab algn="l" pos="3422520"/>
                      <a:tab algn="l" pos="3911760"/>
                      <a:tab algn="l" pos="4400640"/>
                      <a:tab algn="l" pos="4889520"/>
                      <a:tab algn="l" pos="5378400"/>
                      <a:tab algn="l" pos="5867280"/>
                      <a:tab algn="l" pos="6356520"/>
                      <a:tab algn="l" pos="6845400"/>
                      <a:tab algn="l" pos="7334280"/>
                      <a:tab algn="l" pos="7823160"/>
                      <a:tab algn="l" pos="8312040"/>
                      <a:tab algn="l" pos="8801280"/>
                      <a:tab algn="l" pos="9290160"/>
                      <a:tab algn="l" pos="97790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43" name="Grupa 76"/>
              <p:cNvGrpSpPr/>
              <p:nvPr/>
            </p:nvGrpSpPr>
            <p:grpSpPr>
              <a:xfrm>
                <a:off x="3997800" y="4731480"/>
                <a:ext cx="1327320" cy="1086840"/>
                <a:chOff x="3997800" y="4731480"/>
                <a:chExt cx="1327320" cy="1086840"/>
              </a:xfrm>
            </p:grpSpPr>
            <p:sp>
              <p:nvSpPr>
                <p:cNvPr id="244" name="Prostokąt zaokrąglony 84"/>
                <p:cNvSpPr/>
                <p:nvPr/>
              </p:nvSpPr>
              <p:spPr>
                <a:xfrm>
                  <a:off x="3997800" y="4731480"/>
                  <a:ext cx="1327320" cy="108684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e6b9b8"/>
                </a:solidFill>
                <a:ln w="38160">
                  <a:solidFill>
                    <a:srgbClr val="e6b9b8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5" name="Prostokąt 85"/>
                <p:cNvSpPr/>
                <p:nvPr/>
              </p:nvSpPr>
              <p:spPr>
                <a:xfrm>
                  <a:off x="4029480" y="4763160"/>
                  <a:ext cx="1263960" cy="102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7240" rIns="57240" tIns="57240" bIns="57240" anchor="ctr">
                  <a:noAutofit/>
                </a:bodyPr>
                <a:p>
                  <a:pPr algn="ctr">
                    <a:lnSpc>
                      <a:spcPts val="1298"/>
                    </a:lnSpc>
                    <a:spcAft>
                      <a:spcPts val="524"/>
                    </a:spcAft>
                    <a:tabLst>
                      <a:tab algn="l" pos="0"/>
                      <a:tab algn="l" pos="644400"/>
                      <a:tab algn="l" pos="1289160"/>
                      <a:tab algn="l" pos="1933560"/>
                      <a:tab algn="l" pos="2577960"/>
                      <a:tab algn="l" pos="3222720"/>
                      <a:tab algn="l" pos="3867120"/>
                      <a:tab algn="l" pos="4511520"/>
                      <a:tab algn="l" pos="5156280"/>
                      <a:tab algn="l" pos="5800680"/>
                      <a:tab algn="l" pos="6445080"/>
                      <a:tab algn="l" pos="7089840"/>
                      <a:tab algn="l" pos="7734240"/>
                      <a:tab algn="l" pos="8379000"/>
                      <a:tab algn="l" pos="9023400"/>
                      <a:tab algn="l" pos="9667800"/>
                      <a:tab algn="l" pos="10312560"/>
                      <a:tab algn="l" pos="1095696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lnSpc>
                      <a:spcPts val="1298"/>
                    </a:lnSpc>
                    <a:spcAft>
                      <a:spcPts val="524"/>
                    </a:spcAft>
                    <a:tabLst>
                      <a:tab algn="l" pos="0"/>
                      <a:tab algn="l" pos="644400"/>
                      <a:tab algn="l" pos="1289160"/>
                      <a:tab algn="l" pos="1933560"/>
                      <a:tab algn="l" pos="2577960"/>
                      <a:tab algn="l" pos="3222720"/>
                      <a:tab algn="l" pos="3867120"/>
                      <a:tab algn="l" pos="4511520"/>
                      <a:tab algn="l" pos="5156280"/>
                      <a:tab algn="l" pos="5800680"/>
                      <a:tab algn="l" pos="6445080"/>
                      <a:tab algn="l" pos="7089840"/>
                      <a:tab algn="l" pos="7734240"/>
                      <a:tab algn="l" pos="8379000"/>
                      <a:tab algn="l" pos="9023400"/>
                      <a:tab algn="l" pos="9667800"/>
                      <a:tab algn="l" pos="10312560"/>
                      <a:tab algn="l" pos="10956960"/>
                    </a:tabLst>
                  </a:pPr>
                  <a:r>
                    <a:rPr b="0" lang="pl-PL" sz="1200" spc="-1" strike="noStrike">
                      <a:solidFill>
                        <a:srgbClr val="ffff00"/>
                      </a:solidFill>
                      <a:latin typeface="Calibri"/>
                    </a:rPr>
                    <a:t>KLIENT:</a:t>
                  </a: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lnSpc>
                      <a:spcPts val="1298"/>
                    </a:lnSpc>
                    <a:spcAft>
                      <a:spcPts val="524"/>
                    </a:spcAft>
                    <a:tabLst>
                      <a:tab algn="l" pos="0"/>
                      <a:tab algn="l" pos="644400"/>
                      <a:tab algn="l" pos="1289160"/>
                      <a:tab algn="l" pos="1933560"/>
                      <a:tab algn="l" pos="2577960"/>
                      <a:tab algn="l" pos="3222720"/>
                      <a:tab algn="l" pos="3867120"/>
                      <a:tab algn="l" pos="4511520"/>
                      <a:tab algn="l" pos="5156280"/>
                      <a:tab algn="l" pos="5800680"/>
                      <a:tab algn="l" pos="6445080"/>
                      <a:tab algn="l" pos="7089840"/>
                      <a:tab algn="l" pos="7734240"/>
                      <a:tab algn="l" pos="8379000"/>
                      <a:tab algn="l" pos="9023400"/>
                      <a:tab algn="l" pos="9667800"/>
                      <a:tab algn="l" pos="10312560"/>
                      <a:tab algn="l" pos="10956960"/>
                    </a:tabLst>
                  </a:pPr>
                  <a:r>
                    <a:rPr b="0" lang="pl-PL" sz="1200" spc="-1" strike="noStrike">
                      <a:solidFill>
                        <a:srgbClr val="ffffff"/>
                      </a:solidFill>
                      <a:latin typeface="Calibri"/>
                    </a:rPr>
                    <a:t>sam wertuje książki i przepisy prawa</a:t>
                  </a: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lnSpc>
                      <a:spcPts val="1298"/>
                    </a:lnSpc>
                    <a:spcAft>
                      <a:spcPts val="524"/>
                    </a:spcAft>
                    <a:tabLst>
                      <a:tab algn="l" pos="0"/>
                      <a:tab algn="l" pos="644400"/>
                      <a:tab algn="l" pos="1289160"/>
                      <a:tab algn="l" pos="1933560"/>
                      <a:tab algn="l" pos="2577960"/>
                      <a:tab algn="l" pos="3222720"/>
                      <a:tab algn="l" pos="3867120"/>
                      <a:tab algn="l" pos="4511520"/>
                      <a:tab algn="l" pos="5156280"/>
                      <a:tab algn="l" pos="5800680"/>
                      <a:tab algn="l" pos="6445080"/>
                      <a:tab algn="l" pos="7089840"/>
                      <a:tab algn="l" pos="7734240"/>
                      <a:tab algn="l" pos="8379000"/>
                      <a:tab algn="l" pos="9023400"/>
                      <a:tab algn="l" pos="9667800"/>
                      <a:tab algn="l" pos="10312560"/>
                      <a:tab algn="l" pos="1095696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46" name="Strzałka w prawo 18"/>
              <p:cNvSpPr/>
              <p:nvPr/>
            </p:nvSpPr>
            <p:spPr>
              <a:xfrm>
                <a:off x="3684240" y="5175360"/>
                <a:ext cx="196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476"/>
                  </a:spcAft>
                  <a:tabLst>
                    <a:tab algn="l" pos="0"/>
                    <a:tab algn="l" pos="488880"/>
                    <a:tab algn="l" pos="977760"/>
                    <a:tab algn="l" pos="1467000"/>
                    <a:tab algn="l" pos="1955880"/>
                    <a:tab algn="l" pos="2444760"/>
                    <a:tab algn="l" pos="2933640"/>
                    <a:tab algn="l" pos="3422520"/>
                    <a:tab algn="l" pos="3911760"/>
                    <a:tab algn="l" pos="4400640"/>
                    <a:tab algn="l" pos="4889520"/>
                    <a:tab algn="l" pos="5378400"/>
                    <a:tab algn="l" pos="5867280"/>
                    <a:tab algn="l" pos="6356520"/>
                    <a:tab algn="l" pos="6845400"/>
                    <a:tab algn="l" pos="7334280"/>
                    <a:tab algn="l" pos="7823160"/>
                    <a:tab algn="l" pos="8312040"/>
                    <a:tab algn="l" pos="8801280"/>
                    <a:tab algn="l" pos="9290160"/>
                    <a:tab algn="l" pos="97790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47" name="Tytuł 1"/>
          <p:cNvSpPr/>
          <p:nvPr/>
        </p:nvSpPr>
        <p:spPr>
          <a:xfrm>
            <a:off x="324000" y="214200"/>
            <a:ext cx="8189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53735"/>
                </a:solidFill>
                <a:latin typeface="Calibri"/>
                <a:ea typeface="Arial"/>
              </a:rPr>
              <a:t>Proces likwidacji szkó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Grupa 177"/>
          <p:cNvGrpSpPr/>
          <p:nvPr/>
        </p:nvGrpSpPr>
        <p:grpSpPr>
          <a:xfrm>
            <a:off x="1703520" y="2620800"/>
            <a:ext cx="7223040" cy="3935520"/>
            <a:chOff x="1703520" y="2620800"/>
            <a:chExt cx="7223040" cy="3935520"/>
          </a:xfrm>
        </p:grpSpPr>
        <p:grpSp>
          <p:nvGrpSpPr>
            <p:cNvPr id="249" name="Prostokąt zaokrąglony 178"/>
            <p:cNvGrpSpPr/>
            <p:nvPr/>
          </p:nvGrpSpPr>
          <p:grpSpPr>
            <a:xfrm>
              <a:off x="7603560" y="2620800"/>
              <a:ext cx="1323000" cy="1085040"/>
              <a:chOff x="7603560" y="2620800"/>
              <a:chExt cx="1323000" cy="1085040"/>
            </a:xfrm>
          </p:grpSpPr>
          <p:pic>
            <p:nvPicPr>
              <p:cNvPr id="250" name="Prostokąt zaokrąglony 178" descr=""/>
              <p:cNvPicPr/>
              <p:nvPr/>
            </p:nvPicPr>
            <p:blipFill>
              <a:blip r:embed="rId1"/>
              <a:stretch/>
            </p:blipFill>
            <p:spPr>
              <a:xfrm>
                <a:off x="7603560" y="2620800"/>
                <a:ext cx="1323000" cy="108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"/>
              <p:cNvSpPr/>
              <p:nvPr/>
            </p:nvSpPr>
            <p:spPr>
              <a:xfrm>
                <a:off x="7632360" y="2652120"/>
                <a:ext cx="1264320" cy="10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52" name="Prostokąt 179"/>
            <p:cNvSpPr/>
            <p:nvPr/>
          </p:nvSpPr>
          <p:spPr>
            <a:xfrm>
              <a:off x="1703520" y="5533920"/>
              <a:ext cx="1263960" cy="10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240" rIns="57240" tIns="57240" bIns="57240" anchor="ctr">
              <a:noAutofit/>
            </a:bodyPr>
            <a:p>
              <a:pPr algn="ctr">
                <a:lnSpc>
                  <a:spcPts val="1298"/>
                </a:lnSpc>
                <a:spcAft>
                  <a:spcPts val="612"/>
                </a:spcAft>
                <a:tabLst>
                  <a:tab algn="l" pos="0"/>
                  <a:tab algn="l" pos="644400"/>
                  <a:tab algn="l" pos="128916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pl-PL" sz="1400" spc="-1" strike="noStrike">
                  <a:solidFill>
                    <a:srgbClr val="ffff00"/>
                  </a:solidFill>
                  <a:latin typeface="Arial Narrow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3" name="Grupa 162"/>
          <p:cNvGrpSpPr/>
          <p:nvPr/>
        </p:nvGrpSpPr>
        <p:grpSpPr>
          <a:xfrm>
            <a:off x="38160" y="2587680"/>
            <a:ext cx="8407440" cy="1085760"/>
            <a:chOff x="38160" y="2587680"/>
            <a:chExt cx="8407440" cy="1085760"/>
          </a:xfrm>
        </p:grpSpPr>
        <p:grpSp>
          <p:nvGrpSpPr>
            <p:cNvPr id="254" name="Prostokąt zaokrąglony 175"/>
            <p:cNvGrpSpPr/>
            <p:nvPr/>
          </p:nvGrpSpPr>
          <p:grpSpPr>
            <a:xfrm>
              <a:off x="38160" y="2587680"/>
              <a:ext cx="1328400" cy="1085760"/>
              <a:chOff x="38160" y="2587680"/>
              <a:chExt cx="1328400" cy="1085760"/>
            </a:xfrm>
          </p:grpSpPr>
          <p:pic>
            <p:nvPicPr>
              <p:cNvPr id="255" name="Prostokąt zaokrąglony 175" descr=""/>
              <p:cNvPicPr/>
              <p:nvPr/>
            </p:nvPicPr>
            <p:blipFill>
              <a:blip r:embed="rId2"/>
              <a:stretch/>
            </p:blipFill>
            <p:spPr>
              <a:xfrm>
                <a:off x="38160" y="2587680"/>
                <a:ext cx="1328400" cy="108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6" name=""/>
              <p:cNvSpPr/>
              <p:nvPr/>
            </p:nvSpPr>
            <p:spPr>
              <a:xfrm>
                <a:off x="71280" y="2622240"/>
                <a:ext cx="1263600" cy="101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57" name="Prostokąt 176"/>
            <p:cNvSpPr/>
            <p:nvPr/>
          </p:nvSpPr>
          <p:spPr>
            <a:xfrm>
              <a:off x="7182360" y="2590560"/>
              <a:ext cx="1263240" cy="10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240" rIns="57240" tIns="57240" bIns="57240" anchor="ctr">
              <a:noAutofit/>
            </a:bodyPr>
            <a:p>
              <a:pPr algn="ctr">
                <a:lnSpc>
                  <a:spcPts val="1298"/>
                </a:lnSpc>
                <a:spcAft>
                  <a:spcPts val="612"/>
                </a:spcAft>
                <a:tabLst>
                  <a:tab algn="l" pos="0"/>
                  <a:tab algn="l" pos="644400"/>
                  <a:tab algn="l" pos="128916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pl-PL" sz="1400" spc="-1" strike="noStrike">
                  <a:solidFill>
                    <a:srgbClr val="ffff00"/>
                  </a:solidFill>
                  <a:latin typeface="Arial Narrow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8" name="Grupa 163"/>
          <p:cNvGrpSpPr/>
          <p:nvPr/>
        </p:nvGrpSpPr>
        <p:grpSpPr>
          <a:xfrm>
            <a:off x="1916280" y="2620800"/>
            <a:ext cx="6467400" cy="3903840"/>
            <a:chOff x="1916280" y="2620800"/>
            <a:chExt cx="6467400" cy="3903840"/>
          </a:xfrm>
        </p:grpSpPr>
        <p:grpSp>
          <p:nvGrpSpPr>
            <p:cNvPr id="259" name="Prostokąt zaokrąglony 173"/>
            <p:cNvGrpSpPr/>
            <p:nvPr/>
          </p:nvGrpSpPr>
          <p:grpSpPr>
            <a:xfrm>
              <a:off x="1916280" y="2620800"/>
              <a:ext cx="1328400" cy="1085040"/>
              <a:chOff x="1916280" y="2620800"/>
              <a:chExt cx="1328400" cy="1085040"/>
            </a:xfrm>
          </p:grpSpPr>
          <p:pic>
            <p:nvPicPr>
              <p:cNvPr id="260" name="Prostokąt zaokrąglony 173" descr=""/>
              <p:cNvPicPr/>
              <p:nvPr/>
            </p:nvPicPr>
            <p:blipFill>
              <a:blip r:embed="rId3"/>
              <a:stretch/>
            </p:blipFill>
            <p:spPr>
              <a:xfrm>
                <a:off x="1916280" y="2620800"/>
                <a:ext cx="1328400" cy="108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1" name=""/>
              <p:cNvSpPr/>
              <p:nvPr/>
            </p:nvSpPr>
            <p:spPr>
              <a:xfrm>
                <a:off x="1949760" y="2652120"/>
                <a:ext cx="1263960" cy="10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2" name="Prostokąt 174"/>
            <p:cNvSpPr/>
            <p:nvPr/>
          </p:nvSpPr>
          <p:spPr>
            <a:xfrm>
              <a:off x="7120440" y="5502240"/>
              <a:ext cx="1263240" cy="10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240" rIns="57240" tIns="57240" bIns="57240" anchor="ctr">
              <a:noAutofit/>
            </a:bodyPr>
            <a:p>
              <a:pPr algn="ctr">
                <a:lnSpc>
                  <a:spcPts val="1298"/>
                </a:lnSpc>
                <a:spcAft>
                  <a:spcPts val="612"/>
                </a:spcAft>
                <a:tabLst>
                  <a:tab algn="l" pos="0"/>
                  <a:tab algn="l" pos="644400"/>
                  <a:tab algn="l" pos="128916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3" name="Grupa 164"/>
          <p:cNvGrpSpPr/>
          <p:nvPr/>
        </p:nvGrpSpPr>
        <p:grpSpPr>
          <a:xfrm>
            <a:off x="3782880" y="2646360"/>
            <a:ext cx="2706840" cy="3873600"/>
            <a:chOff x="3782880" y="2646360"/>
            <a:chExt cx="2706840" cy="3873600"/>
          </a:xfrm>
        </p:grpSpPr>
        <p:grpSp>
          <p:nvGrpSpPr>
            <p:cNvPr id="264" name="Prostokąt zaokrąglony 171"/>
            <p:cNvGrpSpPr/>
            <p:nvPr/>
          </p:nvGrpSpPr>
          <p:grpSpPr>
            <a:xfrm>
              <a:off x="3782880" y="2646360"/>
              <a:ext cx="1324080" cy="1084680"/>
              <a:chOff x="3782880" y="2646360"/>
              <a:chExt cx="1324080" cy="1084680"/>
            </a:xfrm>
          </p:grpSpPr>
          <p:pic>
            <p:nvPicPr>
              <p:cNvPr id="265" name="Prostokąt zaokrąglony 171" descr=""/>
              <p:cNvPicPr/>
              <p:nvPr/>
            </p:nvPicPr>
            <p:blipFill>
              <a:blip r:embed="rId4"/>
              <a:stretch/>
            </p:blipFill>
            <p:spPr>
              <a:xfrm>
                <a:off x="3782880" y="2646360"/>
                <a:ext cx="1324080" cy="108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6" name=""/>
              <p:cNvSpPr/>
              <p:nvPr/>
            </p:nvSpPr>
            <p:spPr>
              <a:xfrm>
                <a:off x="3812040" y="2678760"/>
                <a:ext cx="1265400" cy="10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7" name="Prostokąt 172"/>
            <p:cNvSpPr/>
            <p:nvPr/>
          </p:nvSpPr>
          <p:spPr>
            <a:xfrm>
              <a:off x="5224680" y="5497920"/>
              <a:ext cx="1265040" cy="10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240" rIns="57240" tIns="57240" bIns="5724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644400"/>
                  <a:tab algn="l" pos="128916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pl-PL" sz="1400" spc="-1" strike="noStrike">
                  <a:solidFill>
                    <a:srgbClr val="ffff00"/>
                  </a:solidFill>
                  <a:latin typeface="Arial Narrow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8" name="Grupa 165"/>
          <p:cNvGrpSpPr/>
          <p:nvPr/>
        </p:nvGrpSpPr>
        <p:grpSpPr>
          <a:xfrm>
            <a:off x="5740560" y="2652840"/>
            <a:ext cx="1326960" cy="1085760"/>
            <a:chOff x="5740560" y="2652840"/>
            <a:chExt cx="1326960" cy="1085760"/>
          </a:xfrm>
        </p:grpSpPr>
        <p:grpSp>
          <p:nvGrpSpPr>
            <p:cNvPr id="269" name="Prostokąt zaokrąglony 169"/>
            <p:cNvGrpSpPr/>
            <p:nvPr/>
          </p:nvGrpSpPr>
          <p:grpSpPr>
            <a:xfrm>
              <a:off x="5740560" y="2652840"/>
              <a:ext cx="1326960" cy="1085760"/>
              <a:chOff x="5740560" y="2652840"/>
              <a:chExt cx="1326960" cy="1085760"/>
            </a:xfrm>
          </p:grpSpPr>
          <p:pic>
            <p:nvPicPr>
              <p:cNvPr id="270" name="Prostokąt zaokrąglony 169" descr=""/>
              <p:cNvPicPr/>
              <p:nvPr/>
            </p:nvPicPr>
            <p:blipFill>
              <a:blip r:embed="rId5"/>
              <a:stretch/>
            </p:blipFill>
            <p:spPr>
              <a:xfrm>
                <a:off x="5740560" y="2652840"/>
                <a:ext cx="1326960" cy="108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"/>
              <p:cNvSpPr/>
              <p:nvPr/>
            </p:nvSpPr>
            <p:spPr>
              <a:xfrm>
                <a:off x="5770080" y="2685600"/>
                <a:ext cx="1267560" cy="102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2" name="Prostokąt 170"/>
            <p:cNvSpPr/>
            <p:nvPr/>
          </p:nvSpPr>
          <p:spPr>
            <a:xfrm>
              <a:off x="5770080" y="2685240"/>
              <a:ext cx="1267920" cy="102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240" rIns="57240" tIns="57240" bIns="57240" anchor="ctr">
              <a:noAutofit/>
            </a:bodyPr>
            <a:p>
              <a:pPr algn="ctr">
                <a:lnSpc>
                  <a:spcPts val="1298"/>
                </a:lnSpc>
                <a:spcAft>
                  <a:spcPts val="612"/>
                </a:spcAft>
                <a:tabLst>
                  <a:tab algn="l" pos="0"/>
                  <a:tab algn="l" pos="644400"/>
                  <a:tab algn="l" pos="128916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pl-PL" sz="1400" spc="-1" strike="noStrike">
                  <a:solidFill>
                    <a:srgbClr val="ffff00"/>
                  </a:solidFill>
                  <a:latin typeface="Arial Narrow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96360" y="1267920"/>
            <a:ext cx="65739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953735"/>
                </a:solidFill>
                <a:latin typeface="Calibri"/>
                <a:ea typeface="Verdana"/>
              </a:rPr>
              <a:t>Asysta prawna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4" name="Grupa 8"/>
          <p:cNvGrpSpPr/>
          <p:nvPr/>
        </p:nvGrpSpPr>
        <p:grpSpPr>
          <a:xfrm>
            <a:off x="376200" y="3419640"/>
            <a:ext cx="8767800" cy="1149120"/>
            <a:chOff x="376200" y="3419640"/>
            <a:chExt cx="8767800" cy="1149120"/>
          </a:xfrm>
        </p:grpSpPr>
        <p:grpSp>
          <p:nvGrpSpPr>
            <p:cNvPr id="275" name="Grupa 123"/>
            <p:cNvGrpSpPr/>
            <p:nvPr/>
          </p:nvGrpSpPr>
          <p:grpSpPr>
            <a:xfrm>
              <a:off x="376200" y="3465000"/>
              <a:ext cx="1327320" cy="1085760"/>
              <a:chOff x="376200" y="3465000"/>
              <a:chExt cx="1327320" cy="1085760"/>
            </a:xfrm>
          </p:grpSpPr>
          <p:sp>
            <p:nvSpPr>
              <p:cNvPr id="276" name="Prostokąt zaokrąglony 148"/>
              <p:cNvSpPr/>
              <p:nvPr/>
            </p:nvSpPr>
            <p:spPr>
              <a:xfrm>
                <a:off x="376200" y="3465000"/>
                <a:ext cx="1327320" cy="1085760"/>
              </a:xfrm>
              <a:prstGeom prst="roundRect">
                <a:avLst>
                  <a:gd name="adj" fmla="val 10000"/>
                </a:avLst>
              </a:prstGeom>
              <a:solidFill>
                <a:srgbClr val="d99694"/>
              </a:solidFill>
              <a:ln w="38160">
                <a:solidFill>
                  <a:srgbClr val="d99694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Prostokąt 149"/>
              <p:cNvSpPr/>
              <p:nvPr/>
            </p:nvSpPr>
            <p:spPr>
              <a:xfrm>
                <a:off x="439560" y="3490200"/>
                <a:ext cx="1263960" cy="1022400"/>
              </a:xfrm>
              <a:prstGeom prst="rect">
                <a:avLst/>
              </a:prstGeom>
              <a:noFill/>
              <a:ln w="9360">
                <a:solidFill>
                  <a:srgbClr val="d996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7240" rIns="57240" tIns="57240" bIns="57240" anchor="ctr">
                <a:noAutofit/>
              </a:bodyPr>
              <a:p>
                <a:pPr algn="ctr">
                  <a:lnSpc>
                    <a:spcPts val="1298"/>
                  </a:lnSpc>
                  <a:spcAft>
                    <a:spcPts val="524"/>
                  </a:spcAft>
                  <a:tabLst>
                    <a:tab algn="l" pos="0"/>
                    <a:tab algn="l" pos="644400"/>
                    <a:tab algn="l" pos="1289160"/>
                    <a:tab algn="l" pos="1933560"/>
                    <a:tab algn="l" pos="2577960"/>
                    <a:tab algn="l" pos="3222720"/>
                    <a:tab algn="l" pos="3867120"/>
                    <a:tab algn="l" pos="4511520"/>
                    <a:tab algn="l" pos="5156280"/>
                    <a:tab algn="l" pos="5800680"/>
                    <a:tab algn="l" pos="6445080"/>
                    <a:tab algn="l" pos="7089840"/>
                    <a:tab algn="l" pos="7734240"/>
                    <a:tab algn="l" pos="8379000"/>
                    <a:tab algn="l" pos="9023400"/>
                    <a:tab algn="l" pos="9667800"/>
                    <a:tab algn="l" pos="10312560"/>
                    <a:tab algn="l" pos="10956960"/>
                  </a:tabLst>
                </a:pPr>
                <a:r>
                  <a:rPr b="0" lang="pl-PL" sz="1200" spc="-1" strike="noStrike">
                    <a:solidFill>
                      <a:srgbClr val="ffff00"/>
                    </a:solidFill>
                    <a:latin typeface="Calibri"/>
                  </a:rPr>
                  <a:t>KLIENT: 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ts val="1298"/>
                  </a:lnSpc>
                  <a:spcAft>
                    <a:spcPts val="524"/>
                  </a:spcAft>
                  <a:tabLst>
                    <a:tab algn="l" pos="0"/>
                    <a:tab algn="l" pos="644400"/>
                    <a:tab algn="l" pos="1289160"/>
                    <a:tab algn="l" pos="1933560"/>
                    <a:tab algn="l" pos="2577960"/>
                    <a:tab algn="l" pos="3222720"/>
                    <a:tab algn="l" pos="3867120"/>
                    <a:tab algn="l" pos="4511520"/>
                    <a:tab algn="l" pos="5156280"/>
                    <a:tab algn="l" pos="5800680"/>
                    <a:tab algn="l" pos="6445080"/>
                    <a:tab algn="l" pos="7089840"/>
                    <a:tab algn="l" pos="7734240"/>
                    <a:tab algn="l" pos="8379000"/>
                    <a:tab algn="l" pos="9023400"/>
                    <a:tab algn="l" pos="9667800"/>
                    <a:tab algn="l" pos="10312560"/>
                    <a:tab algn="l" pos="10956960"/>
                  </a:tabLst>
                </a:pPr>
                <a:r>
                  <a:rPr b="0" lang="pl-PL" sz="1200" spc="-1" strike="noStrike">
                    <a:solidFill>
                      <a:srgbClr val="ffffff"/>
                    </a:solidFill>
                    <a:latin typeface="Calibri"/>
                  </a:rPr>
                  <a:t>telefon na infolinię Ubezpieczyciela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78" name="Grupa 125"/>
            <p:cNvGrpSpPr/>
            <p:nvPr/>
          </p:nvGrpSpPr>
          <p:grpSpPr>
            <a:xfrm>
              <a:off x="2241720" y="3483000"/>
              <a:ext cx="1327320" cy="1085760"/>
              <a:chOff x="2241720" y="3483000"/>
              <a:chExt cx="1327320" cy="1085760"/>
            </a:xfrm>
          </p:grpSpPr>
          <p:sp>
            <p:nvSpPr>
              <p:cNvPr id="279" name="Prostokąt zaokrąglony 144"/>
              <p:cNvSpPr/>
              <p:nvPr/>
            </p:nvSpPr>
            <p:spPr>
              <a:xfrm>
                <a:off x="2241720" y="3483000"/>
                <a:ext cx="1327320" cy="1085760"/>
              </a:xfrm>
              <a:prstGeom prst="roundRect">
                <a:avLst>
                  <a:gd name="adj" fmla="val 10000"/>
                </a:avLst>
              </a:prstGeom>
              <a:solidFill>
                <a:srgbClr val="d99694"/>
              </a:solidFill>
              <a:ln w="38160">
                <a:solidFill>
                  <a:srgbClr val="d99694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" name="Prostokąt 145"/>
              <p:cNvSpPr/>
              <p:nvPr/>
            </p:nvSpPr>
            <p:spPr>
              <a:xfrm>
                <a:off x="2284560" y="3516120"/>
                <a:ext cx="1263960" cy="1022400"/>
              </a:xfrm>
              <a:prstGeom prst="rect">
                <a:avLst/>
              </a:prstGeom>
              <a:solidFill>
                <a:srgbClr val="d99694"/>
              </a:solidFill>
              <a:ln w="9360">
                <a:solidFill>
                  <a:srgbClr val="d996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7240" rIns="57240" tIns="57240" bIns="57240" anchor="ctr">
                <a:noAutofit/>
              </a:bodyPr>
              <a:p>
                <a:pPr algn="ctr">
                  <a:lnSpc>
                    <a:spcPts val="1298"/>
                  </a:lnSpc>
                  <a:spcAft>
                    <a:spcPts val="524"/>
                  </a:spcAft>
                  <a:tabLst>
                    <a:tab algn="l" pos="0"/>
                    <a:tab algn="l" pos="644400"/>
                    <a:tab algn="l" pos="1289160"/>
                    <a:tab algn="l" pos="1933560"/>
                    <a:tab algn="l" pos="2577960"/>
                    <a:tab algn="l" pos="3222720"/>
                    <a:tab algn="l" pos="3867120"/>
                    <a:tab algn="l" pos="4511520"/>
                    <a:tab algn="l" pos="5156280"/>
                    <a:tab algn="l" pos="5800680"/>
                    <a:tab algn="l" pos="6445080"/>
                    <a:tab algn="l" pos="7089840"/>
                    <a:tab algn="l" pos="7734240"/>
                    <a:tab algn="l" pos="8379000"/>
                    <a:tab algn="l" pos="9023400"/>
                    <a:tab algn="l" pos="9667800"/>
                    <a:tab algn="l" pos="10312560"/>
                    <a:tab algn="l" pos="10956960"/>
                  </a:tabLst>
                </a:pPr>
                <a:r>
                  <a:rPr b="0" lang="pl-PL" sz="1200" spc="-1" strike="noStrike">
                    <a:solidFill>
                      <a:srgbClr val="ffff00"/>
                    </a:solidFill>
                    <a:latin typeface="Calibri"/>
                  </a:rPr>
                  <a:t>Ubezpieczyciel: </a:t>
                </a:r>
                <a:r>
                  <a:rPr b="0" lang="pl-PL" sz="1200" spc="-1" strike="noStrike">
                    <a:solidFill>
                      <a:srgbClr val="ffffff"/>
                    </a:solidFill>
                    <a:latin typeface="Calibri"/>
                  </a:rPr>
                  <a:t>przekazanie informacji odnośnie dalszej ścieżki postępowania 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81" name="Grupa 127"/>
            <p:cNvGrpSpPr/>
            <p:nvPr/>
          </p:nvGrpSpPr>
          <p:grpSpPr>
            <a:xfrm>
              <a:off x="4183560" y="3461400"/>
              <a:ext cx="1327320" cy="1085760"/>
              <a:chOff x="4183560" y="3461400"/>
              <a:chExt cx="1327320" cy="1085760"/>
            </a:xfrm>
          </p:grpSpPr>
          <p:sp>
            <p:nvSpPr>
              <p:cNvPr id="282" name="Prostokąt zaokrąglony 140"/>
              <p:cNvSpPr/>
              <p:nvPr/>
            </p:nvSpPr>
            <p:spPr>
              <a:xfrm>
                <a:off x="4183560" y="3461400"/>
                <a:ext cx="1327320" cy="1085760"/>
              </a:xfrm>
              <a:prstGeom prst="roundRect">
                <a:avLst>
                  <a:gd name="adj" fmla="val 10000"/>
                </a:avLst>
              </a:prstGeom>
              <a:solidFill>
                <a:srgbClr val="d99694"/>
              </a:solidFill>
              <a:ln w="38160">
                <a:solidFill>
                  <a:srgbClr val="d99694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" name="Prostokąt 141"/>
              <p:cNvSpPr/>
              <p:nvPr/>
            </p:nvSpPr>
            <p:spPr>
              <a:xfrm>
                <a:off x="4246920" y="3485160"/>
                <a:ext cx="1263960" cy="1022400"/>
              </a:xfrm>
              <a:prstGeom prst="rect">
                <a:avLst/>
              </a:prstGeom>
              <a:noFill/>
              <a:ln w="9360">
                <a:solidFill>
                  <a:srgbClr val="d996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7240" rIns="57240" tIns="57240" bIns="572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524"/>
                  </a:spcAft>
                  <a:tabLst>
                    <a:tab algn="l" pos="0"/>
                    <a:tab algn="l" pos="644400"/>
                    <a:tab algn="l" pos="1289160"/>
                    <a:tab algn="l" pos="1933560"/>
                    <a:tab algn="l" pos="2577960"/>
                    <a:tab algn="l" pos="3222720"/>
                    <a:tab algn="l" pos="3867120"/>
                    <a:tab algn="l" pos="4511520"/>
                    <a:tab algn="l" pos="5156280"/>
                    <a:tab algn="l" pos="5800680"/>
                    <a:tab algn="l" pos="6445080"/>
                    <a:tab algn="l" pos="7089840"/>
                    <a:tab algn="l" pos="7734240"/>
                    <a:tab algn="l" pos="8379000"/>
                    <a:tab algn="l" pos="9023400"/>
                    <a:tab algn="l" pos="9667800"/>
                    <a:tab algn="l" pos="10312560"/>
                    <a:tab algn="l" pos="10956960"/>
                  </a:tabLst>
                </a:pPr>
                <a:r>
                  <a:rPr b="0" lang="pl-PL" sz="1200" spc="-1" strike="noStrike">
                    <a:solidFill>
                      <a:srgbClr val="ffff00"/>
                    </a:solidFill>
                    <a:latin typeface="Calibri"/>
                  </a:rPr>
                  <a:t>Ubezpieczyciel:</a:t>
                </a:r>
                <a:r>
                  <a:rPr b="0" lang="pl-PL" sz="1200" spc="-1" strike="noStrike">
                    <a:solidFill>
                      <a:srgbClr val="ffffff"/>
                    </a:solidFill>
                    <a:latin typeface="Calibri"/>
                  </a:rPr>
                  <a:t> przekazanie klientowi wzorów dokumentów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84" name="Grupa 129"/>
            <p:cNvGrpSpPr/>
            <p:nvPr/>
          </p:nvGrpSpPr>
          <p:grpSpPr>
            <a:xfrm>
              <a:off x="6016680" y="3419640"/>
              <a:ext cx="1327320" cy="1085760"/>
              <a:chOff x="6016680" y="3419640"/>
              <a:chExt cx="1327320" cy="1085760"/>
            </a:xfrm>
          </p:grpSpPr>
          <p:sp>
            <p:nvSpPr>
              <p:cNvPr id="285" name="Prostokąt zaokrąglony 136"/>
              <p:cNvSpPr/>
              <p:nvPr/>
            </p:nvSpPr>
            <p:spPr>
              <a:xfrm>
                <a:off x="6016680" y="3419640"/>
                <a:ext cx="1327320" cy="1085760"/>
              </a:xfrm>
              <a:prstGeom prst="roundRect">
                <a:avLst>
                  <a:gd name="adj" fmla="val 10000"/>
                </a:avLst>
              </a:prstGeom>
              <a:solidFill>
                <a:srgbClr val="d99694"/>
              </a:solidFill>
              <a:ln w="38160">
                <a:solidFill>
                  <a:srgbClr val="d99694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Prostokąt 137"/>
              <p:cNvSpPr/>
              <p:nvPr/>
            </p:nvSpPr>
            <p:spPr>
              <a:xfrm>
                <a:off x="6080040" y="3476520"/>
                <a:ext cx="1216440" cy="990720"/>
              </a:xfrm>
              <a:prstGeom prst="rect">
                <a:avLst/>
              </a:prstGeom>
              <a:solidFill>
                <a:srgbClr val="d99694"/>
              </a:solidFill>
              <a:ln w="9360">
                <a:solidFill>
                  <a:srgbClr val="d996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7240" rIns="57240" tIns="57240" bIns="57240" anchor="ctr">
                <a:noAutofit/>
              </a:bodyPr>
              <a:p>
                <a:pPr algn="ctr">
                  <a:lnSpc>
                    <a:spcPts val="1298"/>
                  </a:lnSpc>
                  <a:spcAft>
                    <a:spcPts val="524"/>
                  </a:spcAft>
                  <a:tabLst>
                    <a:tab algn="l" pos="0"/>
                    <a:tab algn="l" pos="644400"/>
                    <a:tab algn="l" pos="1289160"/>
                    <a:tab algn="l" pos="1933560"/>
                    <a:tab algn="l" pos="2577960"/>
                    <a:tab algn="l" pos="3222720"/>
                    <a:tab algn="l" pos="3867120"/>
                    <a:tab algn="l" pos="4511520"/>
                    <a:tab algn="l" pos="5156280"/>
                    <a:tab algn="l" pos="5800680"/>
                    <a:tab algn="l" pos="6445080"/>
                    <a:tab algn="l" pos="7089840"/>
                    <a:tab algn="l" pos="7734240"/>
                    <a:tab algn="l" pos="8379000"/>
                    <a:tab algn="l" pos="9023400"/>
                    <a:tab algn="l" pos="9667800"/>
                    <a:tab algn="l" pos="10312560"/>
                    <a:tab algn="l" pos="10956960"/>
                  </a:tabLst>
                </a:pPr>
                <a:r>
                  <a:rPr b="0" lang="pl-PL" sz="1200" spc="-1" strike="noStrike">
                    <a:solidFill>
                      <a:srgbClr val="ffff00"/>
                    </a:solidFill>
                    <a:latin typeface="Calibri"/>
                  </a:rPr>
                  <a:t>KLIENT:</a:t>
                </a:r>
                <a:r>
                  <a:rPr b="0" lang="pl-PL" sz="1200" spc="-1" strike="noStrike">
                    <a:solidFill>
                      <a:srgbClr val="f79646"/>
                    </a:solidFill>
                    <a:latin typeface="Calibri"/>
                  </a:rPr>
                  <a:t> </a:t>
                </a:r>
                <a:r>
                  <a:rPr b="0" lang="pl-PL" sz="1200" spc="-1" strike="noStrike">
                    <a:solidFill>
                      <a:srgbClr val="eeece1"/>
                    </a:solidFill>
                    <a:latin typeface="Calibri"/>
                  </a:rPr>
                  <a:t>wysłanie do sklepu pisma z żądaniem zwrotu dwukrotności zadatku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87" name="Strzałka w prawo 134"/>
            <p:cNvSpPr/>
            <p:nvPr/>
          </p:nvSpPr>
          <p:spPr>
            <a:xfrm>
              <a:off x="1803240" y="3884760"/>
              <a:ext cx="280800" cy="328320"/>
            </a:xfrm>
            <a:prstGeom prst="rightArrow">
              <a:avLst>
                <a:gd name="adj1" fmla="val 60000"/>
                <a:gd name="adj2" fmla="val 50000"/>
              </a:avLst>
            </a:prstGeom>
            <a:solidFill>
              <a:srgbClr val="d99694"/>
            </a:solidFill>
            <a:ln w="9360">
              <a:solidFill>
                <a:srgbClr val="d9969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8" name="Grupa 131"/>
            <p:cNvGrpSpPr/>
            <p:nvPr/>
          </p:nvGrpSpPr>
          <p:grpSpPr>
            <a:xfrm>
              <a:off x="7816680" y="3440520"/>
              <a:ext cx="1327320" cy="1085760"/>
              <a:chOff x="7816680" y="3440520"/>
              <a:chExt cx="1327320" cy="1085760"/>
            </a:xfrm>
          </p:grpSpPr>
          <p:sp>
            <p:nvSpPr>
              <p:cNvPr id="289" name="Prostokąt zaokrąglony 132"/>
              <p:cNvSpPr/>
              <p:nvPr/>
            </p:nvSpPr>
            <p:spPr>
              <a:xfrm>
                <a:off x="7816680" y="3440520"/>
                <a:ext cx="1327320" cy="1085760"/>
              </a:xfrm>
              <a:prstGeom prst="roundRect">
                <a:avLst>
                  <a:gd name="adj" fmla="val 10000"/>
                </a:avLst>
              </a:prstGeom>
              <a:solidFill>
                <a:srgbClr val="d99694"/>
              </a:solidFill>
              <a:ln w="38160">
                <a:solidFill>
                  <a:srgbClr val="d99694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Prostokąt 133"/>
              <p:cNvSpPr/>
              <p:nvPr/>
            </p:nvSpPr>
            <p:spPr>
              <a:xfrm>
                <a:off x="7846560" y="3483360"/>
                <a:ext cx="1263960" cy="1022400"/>
              </a:xfrm>
              <a:prstGeom prst="rect">
                <a:avLst/>
              </a:prstGeom>
              <a:noFill/>
              <a:ln w="9360">
                <a:solidFill>
                  <a:srgbClr val="d996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7240" rIns="57240" tIns="57240" bIns="57240" anchor="ctr">
                <a:noAutofit/>
              </a:bodyPr>
              <a:p>
                <a:pPr algn="ctr">
                  <a:lnSpc>
                    <a:spcPts val="1298"/>
                  </a:lnSpc>
                  <a:spcAft>
                    <a:spcPts val="524"/>
                  </a:spcAft>
                  <a:tabLst>
                    <a:tab algn="l" pos="0"/>
                    <a:tab algn="l" pos="644400"/>
                    <a:tab algn="l" pos="1289160"/>
                    <a:tab algn="l" pos="1933560"/>
                    <a:tab algn="l" pos="2577960"/>
                    <a:tab algn="l" pos="3222720"/>
                    <a:tab algn="l" pos="3867120"/>
                    <a:tab algn="l" pos="4511520"/>
                    <a:tab algn="l" pos="5156280"/>
                    <a:tab algn="l" pos="5800680"/>
                    <a:tab algn="l" pos="6445080"/>
                    <a:tab algn="l" pos="7089840"/>
                    <a:tab algn="l" pos="7734240"/>
                    <a:tab algn="l" pos="8379000"/>
                    <a:tab algn="l" pos="9023400"/>
                    <a:tab algn="l" pos="9667800"/>
                    <a:tab algn="l" pos="10312560"/>
                    <a:tab algn="l" pos="10956960"/>
                  </a:tabLst>
                </a:pPr>
                <a:r>
                  <a:rPr b="0" lang="pl-PL" sz="1200" spc="-1" strike="noStrike">
                    <a:solidFill>
                      <a:srgbClr val="ffff00"/>
                    </a:solidFill>
                    <a:latin typeface="Calibri"/>
                  </a:rPr>
                  <a:t>SKLEP:</a:t>
                </a:r>
                <a:r>
                  <a:rPr b="0" lang="pl-PL" sz="1200" spc="-1" strike="noStrike">
                    <a:solidFill>
                      <a:srgbClr val="f79646"/>
                    </a:solidFill>
                    <a:latin typeface="Calibri"/>
                  </a:rPr>
                  <a:t> </a:t>
                </a:r>
                <a:r>
                  <a:rPr b="0" lang="pl-PL" sz="1200" spc="-1" strike="noStrike">
                    <a:solidFill>
                      <a:srgbClr val="eeece1"/>
                    </a:solidFill>
                    <a:latin typeface="Calibri"/>
                  </a:rPr>
                  <a:t>odmowa wypłaty/ wypłata zadatku przez sklep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91" name="Strzałka w prawo 78"/>
          <p:cNvSpPr/>
          <p:nvPr/>
        </p:nvSpPr>
        <p:spPr>
          <a:xfrm>
            <a:off x="7469280" y="3871800"/>
            <a:ext cx="282600" cy="330480"/>
          </a:xfrm>
          <a:prstGeom prst="rightArrow">
            <a:avLst>
              <a:gd name="adj1" fmla="val 60000"/>
              <a:gd name="adj2" fmla="val 50000"/>
            </a:avLst>
          </a:prstGeom>
          <a:solidFill>
            <a:srgbClr val="d99694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trzałka w prawo 79"/>
          <p:cNvSpPr/>
          <p:nvPr/>
        </p:nvSpPr>
        <p:spPr>
          <a:xfrm>
            <a:off x="5641920" y="3884760"/>
            <a:ext cx="281160" cy="328320"/>
          </a:xfrm>
          <a:prstGeom prst="rightArrow">
            <a:avLst>
              <a:gd name="adj1" fmla="val 60000"/>
              <a:gd name="adj2" fmla="val 50000"/>
            </a:avLst>
          </a:prstGeom>
          <a:solidFill>
            <a:srgbClr val="d99694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trzałka w prawo 80"/>
          <p:cNvSpPr/>
          <p:nvPr/>
        </p:nvSpPr>
        <p:spPr>
          <a:xfrm>
            <a:off x="3782880" y="3884760"/>
            <a:ext cx="281160" cy="328320"/>
          </a:xfrm>
          <a:prstGeom prst="rightArrow">
            <a:avLst>
              <a:gd name="adj1" fmla="val 60000"/>
              <a:gd name="adj2" fmla="val 50000"/>
            </a:avLst>
          </a:prstGeom>
          <a:solidFill>
            <a:srgbClr val="d99694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ytuł 1"/>
          <p:cNvSpPr/>
          <p:nvPr/>
        </p:nvSpPr>
        <p:spPr>
          <a:xfrm>
            <a:off x="324000" y="214200"/>
            <a:ext cx="8189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53735"/>
                </a:solidFill>
                <a:latin typeface="Calibri"/>
                <a:ea typeface="Arial"/>
              </a:rPr>
              <a:t>Proces likwidacji szkó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4" descr="C:\Users\ajacznik\AppData\Local\Microsoft\Windows\Temporary Internet Files\Content.IE5\12KLNY6X\scale-of-justice[1].jpg"/>
          <p:cNvPicPr/>
          <p:nvPr/>
        </p:nvPicPr>
        <p:blipFill>
          <a:blip r:embed="rId1"/>
          <a:stretch/>
        </p:blipFill>
        <p:spPr>
          <a:xfrm>
            <a:off x="384120" y="4363920"/>
            <a:ext cx="2328840" cy="361656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657216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953735"/>
                </a:solidFill>
                <a:latin typeface="Calibri"/>
                <a:ea typeface="Verdana"/>
              </a:rPr>
              <a:t>Ochrona prawna</a:t>
            </a:r>
            <a:br>
              <a:rPr sz="26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Łącznik prostoliniowy 38"/>
          <p:cNvSpPr/>
          <p:nvPr/>
        </p:nvSpPr>
        <p:spPr>
          <a:xfrm>
            <a:off x="1403280" y="2781360"/>
            <a:ext cx="289080" cy="1203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8" name="Diagram 71" descr=""/>
          <p:cNvPicPr/>
          <p:nvPr/>
        </p:nvPicPr>
        <p:blipFill>
          <a:blip r:embed="rId2"/>
          <a:stretch/>
        </p:blipFill>
        <p:spPr>
          <a:xfrm>
            <a:off x="249120" y="2517840"/>
            <a:ext cx="8894880" cy="3144600"/>
          </a:xfrm>
          <a:prstGeom prst="rect">
            <a:avLst/>
          </a:prstGeom>
          <a:ln w="0">
            <a:noFill/>
          </a:ln>
        </p:spPr>
      </p:pic>
      <p:sp>
        <p:nvSpPr>
          <p:cNvPr id="299" name="Tytuł 1"/>
          <p:cNvSpPr/>
          <p:nvPr/>
        </p:nvSpPr>
        <p:spPr>
          <a:xfrm>
            <a:off x="324000" y="214200"/>
            <a:ext cx="8189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53735"/>
                </a:solidFill>
                <a:latin typeface="Calibri"/>
                <a:ea typeface="Arial"/>
              </a:rPr>
              <a:t>Proces likwidacji szkó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ytuł 1"/>
          <p:cNvSpPr/>
          <p:nvPr/>
        </p:nvSpPr>
        <p:spPr>
          <a:xfrm>
            <a:off x="2071800" y="2928960"/>
            <a:ext cx="65293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Arial"/>
              </a:rPr>
              <a:t>Dziękujemy za uwag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3640" y="213840"/>
            <a:ext cx="8189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53735"/>
                </a:solidFill>
                <a:latin typeface="Calibri"/>
              </a:rPr>
              <a:t>Ubezpieczenie ochrony prawnej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50560" y="836640"/>
            <a:ext cx="87152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601"/>
              </a:spcBef>
              <a:buClr>
                <a:srgbClr val="912244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53735"/>
                </a:solidFill>
                <a:latin typeface="Calibri"/>
              </a:rPr>
              <a:t>Ubezpieczenie ochrony prawnej – podstawa prawna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601"/>
              </a:spcBef>
              <a:buClr>
                <a:srgbClr val="912244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53735"/>
                </a:solidFill>
                <a:latin typeface="Calibri"/>
              </a:rPr>
              <a:t>Gwarantowane świadczenia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601"/>
              </a:spcBef>
              <a:buClr>
                <a:srgbClr val="912244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53735"/>
                </a:solidFill>
                <a:latin typeface="Calibri"/>
              </a:rPr>
              <a:t>Zakres ubezpieczenia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601"/>
              </a:spcBef>
              <a:buClr>
                <a:srgbClr val="912244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53735"/>
                </a:solidFill>
                <a:latin typeface="Calibri"/>
              </a:rPr>
              <a:t>Produkty i programy ubezpieczeniow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601"/>
              </a:spcBef>
              <a:buClr>
                <a:srgbClr val="912244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53735"/>
                </a:solidFill>
                <a:latin typeface="Calibri"/>
              </a:rPr>
              <a:t>Proces likwidacji szkó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601"/>
              </a:spcBef>
              <a:buClr>
                <a:srgbClr val="912244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99"/>
              </a:spcBef>
              <a:buClr>
                <a:srgbClr val="912244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700"/>
              </a:spcBef>
              <a:buClr>
                <a:srgbClr val="912244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00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00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12244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12244"/>
              </a:solidFill>
              <a:latin typeface="Verdana"/>
            </a:endParaRPr>
          </a:p>
        </p:txBody>
      </p:sp>
      <p:pic>
        <p:nvPicPr>
          <p:cNvPr id="135" name="Obraz 3" descr=""/>
          <p:cNvPicPr/>
          <p:nvPr/>
        </p:nvPicPr>
        <p:blipFill>
          <a:blip r:embed="rId1"/>
          <a:stretch/>
        </p:blipFill>
        <p:spPr>
          <a:xfrm>
            <a:off x="4284720" y="3860640"/>
            <a:ext cx="428292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3640" y="213840"/>
            <a:ext cx="8189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53735"/>
                </a:solidFill>
                <a:latin typeface="Calibri"/>
              </a:rPr>
              <a:t>Ubezpieczenie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pl-PL" sz="2400" spc="-1" strike="noStrike">
                <a:solidFill>
                  <a:srgbClr val="953735"/>
                </a:solidFill>
                <a:latin typeface="Calibri"/>
              </a:rPr>
              <a:t>ochrony prawnej – podstawa prawna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50560" y="836280"/>
            <a:ext cx="87152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Art. 27 ustawy o działalności ubezpieczeniowej i reasekuracyjnej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953735"/>
                </a:solidFill>
                <a:latin typeface="Calibri"/>
                <a:ea typeface="Verdana"/>
              </a:rPr>
              <a:t>Przedmiot ochrony w ubezpieczeniu ochrony prawnej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5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Ubezpieczenie ochrony prawnej polega na zobowiązaniu się zakładu ubezpieczeń do poniesienia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kosztów postępowania sądowego                        oraz wykonywania innych usług związanych bezpośrednio z ochroną ubezpieczeniową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w celu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50000"/>
              </a:lnSpc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dochodzenia roszczeń przez Ubezpieczonego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50000"/>
              </a:lnSpc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obrony w związku z roszczeniami zgłoszonymi wobec Ubezpieczonego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953735"/>
                </a:solidFill>
                <a:latin typeface="Calibri"/>
                <a:ea typeface="Verdana"/>
              </a:rPr>
              <a:t>Przedmiotem ubezpieczenia ochrony prawnej jest interes prawny Ubezpieczonego. Przedmiot ubezpieczenia jest niematerialny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00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00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12244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12244"/>
              </a:solidFill>
              <a:latin typeface="Verdana"/>
            </a:endParaRPr>
          </a:p>
        </p:txBody>
      </p:sp>
      <p:pic>
        <p:nvPicPr>
          <p:cNvPr id="138" name="Obraz 5" descr=""/>
          <p:cNvPicPr/>
          <p:nvPr/>
        </p:nvPicPr>
        <p:blipFill>
          <a:blip r:embed="rId1"/>
          <a:stretch/>
        </p:blipFill>
        <p:spPr>
          <a:xfrm>
            <a:off x="7236000" y="4724280"/>
            <a:ext cx="1469880" cy="17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3640" y="213840"/>
            <a:ext cx="8189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53735"/>
                </a:solidFill>
                <a:latin typeface="Calibri"/>
              </a:rPr>
              <a:t>Gwarantowane świadczenia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0560" y="836280"/>
            <a:ext cx="87152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953735"/>
                </a:solidFill>
                <a:latin typeface="Calibri"/>
                <a:ea typeface="Verdana"/>
              </a:rPr>
              <a:t>Koszty pokrywane w ramach ubezpieczenia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99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ynagrodzenie adwokata lub radcy prawnego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99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koszty sądowe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szystkich instancji w postępowaniach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99"/>
              </a:spcBef>
              <a:buClr>
                <a:srgbClr val="91224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cywilnym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99"/>
              </a:spcBef>
              <a:buClr>
                <a:srgbClr val="91224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karnym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99"/>
              </a:spcBef>
              <a:buClr>
                <a:srgbClr val="91224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administracyjnym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(w tym koszty biegłych, dojazdu świadków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99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koszty postępowania sądu polubownego, mediacji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99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koszty postępowania egzekucyjnego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99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koszty procesu zasądzone na rzecz strony przeciwnej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99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koszty poręczenia majątkowego przewidzianego dla uniknięcia tymczasowego aresztowania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99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koszty notarialn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99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koszty opinii prawnej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6351480" y="1914480"/>
            <a:ext cx="214632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3640" y="213840"/>
            <a:ext cx="8189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53735"/>
                </a:solidFill>
                <a:latin typeface="Calibri"/>
              </a:rPr>
              <a:t>Gwarantowane świadczenia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Symbol zastępczy zawartości 3" descr=""/>
          <p:cNvPicPr/>
          <p:nvPr/>
        </p:nvPicPr>
        <p:blipFill>
          <a:blip r:embed="rId1"/>
          <a:stretch/>
        </p:blipFill>
        <p:spPr>
          <a:xfrm>
            <a:off x="182520" y="835200"/>
            <a:ext cx="8869320" cy="6022800"/>
          </a:xfrm>
          <a:prstGeom prst="rect">
            <a:avLst/>
          </a:prstGeom>
          <a:ln w="0">
            <a:noFill/>
          </a:ln>
        </p:spPr>
      </p:pic>
      <p:sp>
        <p:nvSpPr>
          <p:cNvPr id="144" name="Tytuł 1"/>
          <p:cNvSpPr/>
          <p:nvPr/>
        </p:nvSpPr>
        <p:spPr>
          <a:xfrm>
            <a:off x="324000" y="1125360"/>
            <a:ext cx="818964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953735"/>
                </a:solidFill>
                <a:latin typeface="Calibri"/>
                <a:ea typeface="Arial"/>
              </a:rPr>
              <a:t>W ramach ubezpieczenia ochrony prawnej świadczona jest także telefoniczna porada prawn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3640" y="213840"/>
            <a:ext cx="8189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53735"/>
                </a:solidFill>
                <a:latin typeface="Calibri"/>
              </a:rPr>
              <a:t>Zakres ubezpieczenia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50560" y="836280"/>
            <a:ext cx="87152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ramach ubezpieczenia ochrony prawnej objęte są jedynie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problemy prawne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     i pokrywane są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koszty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które mieszczą się w </a:t>
            </a:r>
            <a:r>
              <a:rPr b="1" lang="pl-PL" sz="2000" spc="-1" strike="noStrike">
                <a:solidFill>
                  <a:srgbClr val="953735"/>
                </a:solidFill>
                <a:latin typeface="Calibri"/>
                <a:ea typeface="Verdana"/>
              </a:rPr>
              <a:t>zakresie ubezpieczenia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953735"/>
                </a:solidFill>
                <a:latin typeface="Calibri"/>
                <a:ea typeface="Verdana"/>
              </a:rPr>
              <a:t>Główne czynniki wyznaczające zakres ubezpieczenia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99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ekompensowane koszt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99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akres spraw, których dotyczy ochrona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99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akres podmiotow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99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uma ubezpieczenia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99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yłączenia odpowiedzialności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Ubezpieczony może skorzystać z ubezpieczenia ochrony prawnej, jeżeli wypadek ubezpieczeniowy zaszedł w </a:t>
            </a:r>
            <a:r>
              <a:rPr b="1" lang="pl-PL" sz="2000" spc="-1" strike="noStrike">
                <a:solidFill>
                  <a:srgbClr val="953735"/>
                </a:solidFill>
                <a:latin typeface="Calibri"/>
                <a:ea typeface="Verdana"/>
              </a:rPr>
              <a:t>okresie ubezpieczenia.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3640" y="213840"/>
            <a:ext cx="8189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53735"/>
                </a:solidFill>
                <a:latin typeface="Calibri"/>
              </a:rPr>
              <a:t>Zakres ubezpieczenia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50560" y="836280"/>
            <a:ext cx="87152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953735"/>
                </a:solidFill>
                <a:latin typeface="Calibri"/>
                <a:ea typeface="Verdana"/>
              </a:rPr>
              <a:t>Zakres ochrony w ubezpieczeniu ochrony prawnej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  <a:ea typeface="Verdana"/>
              </a:rPr>
              <a:t>Problemy prawne z zakresu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99"/>
              </a:spcBef>
              <a:buClr>
                <a:srgbClr val="912244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  <a:ea typeface="Verdana"/>
              </a:rPr>
              <a:t>Prawa karnego i wykroczeń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99"/>
              </a:spcBef>
              <a:buClr>
                <a:srgbClr val="912244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  <a:ea typeface="Verdana"/>
              </a:rPr>
              <a:t>Prawa cywilnego, w tym w szczególności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99"/>
              </a:spcBef>
              <a:buClr>
                <a:srgbClr val="91224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Verdana"/>
              </a:rPr>
              <a:t>spory konsumencki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99"/>
              </a:spcBef>
              <a:buClr>
                <a:srgbClr val="91224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Verdana"/>
              </a:rPr>
              <a:t>umow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99"/>
              </a:spcBef>
              <a:buClr>
                <a:srgbClr val="91224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Verdana"/>
              </a:rPr>
              <a:t>dochodzenie roszczeń odszkodowawczych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99"/>
              </a:spcBef>
              <a:buClr>
                <a:srgbClr val="912244"/>
              </a:buClr>
              <a:buSzPct val="120000"/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  <a:ea typeface="Verdana"/>
              </a:rPr>
              <a:t>Prawa pracy i ubezpieczeń społecznych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99"/>
              </a:spcBef>
              <a:buClr>
                <a:srgbClr val="912244"/>
              </a:buClr>
              <a:buSzPct val="120000"/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  <a:ea typeface="Verdana"/>
              </a:rPr>
              <a:t>Problematyki prawnej, związanej z wykonywanym zawodem (specjalistyczne wsparcie dla konkretnych grup zawodowych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99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Obraz 5" descr=""/>
          <p:cNvPicPr/>
          <p:nvPr/>
        </p:nvPicPr>
        <p:blipFill>
          <a:blip r:embed="rId1"/>
          <a:stretch/>
        </p:blipFill>
        <p:spPr>
          <a:xfrm>
            <a:off x="6746760" y="2060640"/>
            <a:ext cx="172260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3640" y="213840"/>
            <a:ext cx="8189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53735"/>
                </a:solidFill>
                <a:latin typeface="Calibri"/>
              </a:rPr>
              <a:t>Produkty i programy ubezpieczeniow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50560" y="836280"/>
            <a:ext cx="87152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953735"/>
                </a:solidFill>
                <a:latin typeface="Calibri"/>
                <a:ea typeface="Verdana"/>
              </a:rPr>
              <a:t>Forma sprzedaż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99"/>
              </a:spcBef>
              <a:buClr>
                <a:srgbClr val="91224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  <a:ea typeface="Verdana"/>
              </a:rPr>
              <a:t>indywidualna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99"/>
              </a:spcBef>
              <a:buClr>
                <a:srgbClr val="91224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  <a:ea typeface="Verdana"/>
              </a:rPr>
              <a:t>grupowa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99"/>
              </a:spcBef>
              <a:buClr>
                <a:srgbClr val="91224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99"/>
              </a:spcBef>
              <a:buClr>
                <a:srgbClr val="91224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  <a:ea typeface="Verdana"/>
              </a:rPr>
              <a:t>stand alon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99"/>
              </a:spcBef>
              <a:buClr>
                <a:srgbClr val="91224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  <a:ea typeface="Verdana"/>
              </a:rPr>
              <a:t>w ramach pakietu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99"/>
              </a:spcBef>
              <a:buClr>
                <a:srgbClr val="91224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953735"/>
                </a:solidFill>
                <a:latin typeface="Calibri"/>
                <a:ea typeface="Verdana"/>
              </a:rPr>
              <a:t>Jedynie ok. 10% przypisu pochodzi ze sprzedaży stand alone!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99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Obraz 3" descr=""/>
          <p:cNvPicPr/>
          <p:nvPr/>
        </p:nvPicPr>
        <p:blipFill>
          <a:blip r:embed="rId1"/>
          <a:stretch/>
        </p:blipFill>
        <p:spPr>
          <a:xfrm>
            <a:off x="5219640" y="4508640"/>
            <a:ext cx="352908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3640" y="213840"/>
            <a:ext cx="8189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53735"/>
                </a:solidFill>
                <a:latin typeface="Calibri"/>
              </a:rPr>
              <a:t>Produkty i programy ubezpieczeniow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50560" y="836280"/>
            <a:ext cx="87152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953735"/>
                </a:solidFill>
                <a:latin typeface="Calibri"/>
                <a:ea typeface="Verdana"/>
              </a:rPr>
              <a:t>Produkty o największym potencjal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953735"/>
                </a:solidFill>
                <a:latin typeface="Calibri"/>
                <a:ea typeface="Verdana"/>
              </a:rPr>
              <a:t>Indywidualn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99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  <a:ea typeface="Verdana"/>
              </a:rPr>
              <a:t>Ochrona prawna związana z komunikacją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Verdana"/>
              </a:rPr>
              <a:t>– z uwagi na powszechność użytkowania pojazdów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99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  <a:ea typeface="Verdana"/>
              </a:rPr>
              <a:t>Ochrona konsumencka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Verdana"/>
              </a:rPr>
              <a:t>– głównie w obszarze umów (kupna-sprzedaży, usług – np. usługi dostarczania mediów, turystyczne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99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  <a:ea typeface="Verdana"/>
              </a:rPr>
              <a:t>Ochrona związana z posiadaniem i użytkowaniem nieruchomości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953735"/>
                </a:solidFill>
                <a:latin typeface="Calibri"/>
                <a:ea typeface="Verdana"/>
              </a:rPr>
              <a:t>Grupow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99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  <a:ea typeface="Verdana"/>
              </a:rPr>
              <a:t>Programy komunikacyjne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Verdana"/>
              </a:rPr>
              <a:t>– produkt samodzielny lub dodatkowy oferowany przy zakupie samochod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99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  <a:ea typeface="Verdana"/>
              </a:rPr>
              <a:t>Programy dedykowane grupom zawodowym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Verdana"/>
              </a:rPr>
              <a:t>– oferowane na ogół za pośrednictwem stowarzyszeń i związków zawodowych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99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8T10:27:06Z</dcterms:created>
  <dc:creator>jarecki</dc:creator>
  <dc:description/>
  <dc:language>en-US</dc:language>
  <cp:lastModifiedBy>Renata Orzechowska</cp:lastModifiedBy>
  <cp:lastPrinted>2019-10-22T11:32:33Z</cp:lastPrinted>
  <dcterms:modified xsi:type="dcterms:W3CDTF">2019-11-20T11:40:03Z</dcterms:modified>
  <cp:revision>123</cp:revision>
  <dc:subject/>
  <dc:title>Slajd 1</dc:title>
</cp:coreProperties>
</file>